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FCB-B604-408E-A64D-37024A79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3E2-C664-45BC-B351-F6AEDE8A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6CE-52D4-4A9A-B9FC-218C2CB3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243-F27F-44D9-91D2-2B1B0771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B0D0F-03C6-4687-9224-EE09D5AE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7B12F-9C02-4182-AA39-8925822E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159D4-3F4F-4421-A8FA-4B8B733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2BED2-0985-4058-999B-7F2FAE90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238B8-5F0C-4965-A791-7B44344F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79907-6DE5-4A3A-9D7F-00DF00E6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02240-BE26-401E-8406-D7CFCA3D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44E-4D47-4C73-895D-EEAC017A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F3149-6528-414D-8012-6CD2AD2B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3E790-FE57-4DC3-989B-4D5DEB0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90A33-26C5-46AD-A5CE-55EAED02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85CE3-0205-4C19-82F7-66D69F08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94EB2-930C-4382-B055-FD97E9CF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915-590B-4E78-AC88-31D46FB9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86D-6696-4EDE-A041-4BF8781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DCB-A09E-4F68-A7F0-6C3D8837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E64-9D4E-44D7-ADE5-AAF546F4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184-1112-4186-AFF1-F0D463D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E70-F502-4789-9497-F177DDE4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9D9-1D1A-4CCB-BE40-3579E741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D745-340C-421B-9F35-0CC82B114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57D0-4F1B-496A-9465-F36E4237FC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lpo@gmx.net?subject=Educaci&#243;n%20a%20Distancia%20(web)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nam.mx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La Educ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7080" y="54100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cc00"/>
                </a:solidFill>
                <a:uFillTx/>
                <a:latin typeface="Balloon Bd BT"/>
                <a:hlinkClick r:id="rId1"/>
              </a:rPr>
              <a:t>Rodrigo Poblanno Bal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mer método que se empleó para resolver este problema fue la educación a distancia por medio del corre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alumno se suscribe por medio de una solicitud que envía a la universidad o escuela. Luego de esto, la universidad y el suscriptor comienzan una interacción vía correo. En donde la universidad envía al alumno los temas seleccionados que se requieren para obtener los conocimie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Más tarde, ya que la radio habitaba en casi cada uno de los hogares del planeta, la educación a distancia por radio nació. Facilitaba una parte de su antecesor el correo, pero no del todo. La interacción alumno profesor era más difícil y la evaluación casi impo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asi inmediatamente la televisión fue el siguiente medio que la educación a distancia usó. Ésta facilitaba más la comprensión del alumno ya que contaba con imágenes que el alumno podía analizar y tomar como ejemplo para recibir con mayor eficiencia la educación. El problema de la evaluación seguía en pi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un poco más de retraso Internet y el avance en las telecomunicaciones fueron (y son) las principales vías para la educación a dist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nmenso crecimiento de la población con la facilidad de una computadora hicieron que se desarrollara más rápido la educación vía Inter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la actualidad hay un sinfín de universidades y escuelas “on line” las cuales brindan complejos planes de estudio para los alum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utilización de Internet es el tema más actual de los actuales ya que brinda bajo costo y alta efic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y el hipertexto facilitaron de manera inmensa el avance de la educación a distancia (ea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grandes bases de datos facilitaron la consulta de datos que en la antigüedad tomaba semanas e incluso meses para obte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multimedia creo tutoriales, cursos, manuales y libros digit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Actualmente 76 países ya cuentan con varias instituciones de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Se cuentan con aproximadamente 180,000 alumnos en línea y más de 8 millones de usuarios de Internet han utilizado alguna vez un tuto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video conferencias han revolucionado la manera en que distintas universidades interactúan. Ha contribuido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 action="ppaction://hlinksldjump"/>
              </a:rPr>
              <a:t>Investig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y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2" action="ppaction://hlinksldjump"/>
              </a:rPr>
              <a:t>Evalu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-Learning International ha desarrollado las aulas electrónicas. Con la facilidad de rentar aulas electrónicas en muchas páginas We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ha casi desaparecido la EAD por correo ya que es más rápido, menos costoso, más diverso y cuenta con información de alrededor del mundo con la “pesada” tarea de hacer cli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por radio ha sido olvidada por completo; se ha vuelto todavía más obsoleta que la EAD por ra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televisiva (Tele-educación) sigue presente, aunque encogida por Internet y sus facilidades, en muchos países en vías de desarrollo y tercermundistas es el único medio posible para educar (enseñar a leer, a escribir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¿Qué es?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Temas actuales, pasados y futu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valu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vestig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clu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como en otros países, se planea tener una e-Educación. Con el objetivo de sustituir por completo la tele-Educación y promover en comunidades aisladas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Varias universidades alrededor del mundo se unen a las escuelas “on line” para impartir pequeños cursos y diplom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TESM (Monterrey) pone en marcha su Maestría a distancia siendo una de las pocas universidades que imparten la Maestría “on line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valuación a Distancia ha sido un gran problema desde que la EAD nació. Los cuestionarios que utilizaban el correo en la Educación a distancia por correo, televisión y radio muchas veces no llegaban o llegaban tarde, invalidando así el resultado de la evalu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confiabilidad con la que cuentan las evaluaciones a distancia no es total, es decir, la institución no está segura de que el alumno contestó la evaluación de manera honesta: en un tiempo máximo, sin ayuda de alguien que tenga más conocimientos, sin consultar material de apoyo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solución por el momento a la evaluación a distancia (EvAD) es el apoyo de instituciones auxiliares que ayudan a la universidad a evaluar de manera personal al alumno, certificando así que el resultado de la evaluación es realmente su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embajadas, consulados y otras universidades cumplen esta función en todo el mu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Investigación a Distancia (IAD) se creía hasta cierto punto difícil y poco eficiente pero los resultados obtenidos al momento demuestran totalmente lo contrar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video conferencias y de bibliotecas virtuales ha abierto las puertas a la IAD facilitando la colaboración internacional para la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/>
              </a:rPr>
              <a:t>UNAM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fue la primera universidad en Latinoamérica en ofrecer la IAD a universidades de América y Euro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ya muchas de las universidades cuentan con bibliotecas virtuales y con la posibilidad de efectuar video conferenci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ha revolucionado de manera veloz y segura la educación a nivel mund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la ayuda de la EvAD y la IAD la Educación a Distancia ha sacado al “mundo real” muchos profesionistas que actualmente trabajan en algo relacionado con su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desarrollo que tenga Internet, la multimedia y todos los recursos que estos comparten, afectará de manera muy directa la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es la educación “moderna” en nuestros tiempos. Es una gran herramienta en el ámbito de la educación y utiliza herramientas auxiliares como la Telecomunicación para hacerla más eficien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busca proporcionar una educación efectiva a personas de cualquier edad, nivel social, nacionalidad, género, etc. La Educación a Distancia surge en base a la necesidad de adquirir conocimientos de las personas que no tienen la capacidad de tener la educación en el lugar donde residen.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El crecimiento de Internet facilitó de manera enorme el pequeño y difícil paso que hacía falta para echarla a andar. Anteriormente la televisión era el medio más adepto para realizar la educación a distancia con ciertos problemas: la interacción alumno(s) profesor(es) se tornaba sumamente costosa y complicada, los métodos de evaluación hacia los alumnos implicaban algún tipo de interacción; en ambos la gente iba dejándolo a un lado, a pesar de las enormes necesidades que se podían ten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También, en base a los efectos de Internet, la educación a distancia abarcó varios rubros que antes no cubría, como por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onsulta de grandes bases de datos sin la necesidad de la interacción con otro ser hum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reación de problemas con la posibilidad de ser resueltos por los mismos usuarios de este tipo de edu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ncipal y único propósito de la Educación a Distancia, como su nombre lo dice, es educar de lej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ero no es tan simple de decir porque la educación implica ciertos criterios de evaluación y enseñanza que, en parte, se dificultan al ser “de lejo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roporcionar una educación útil y que sea reconocida a nivel internacional de manera que sea tan válida como la educación comú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ducación sea tan eficiente que en cualquier tipo de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valuación </a:t>
            </a: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realmente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evalúe al alum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¿Por qué surge la Educación a Distanc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Desde hace ya aproximadamente un siglo comienza a surgir la necesidad de obtener una educación a distancia. La revolución industrial y los avances socioeconómicos de muchos países descentralizaron a la población, más no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0:26:58Z</dcterms:created>
  <dc:creator>Rodrigo Poblanno Balp</dc:creator>
  <dc:description/>
  <dc:language>en-US</dc:language>
  <cp:lastModifiedBy>José Luis Villegas Valle</cp:lastModifiedBy>
  <dcterms:modified xsi:type="dcterms:W3CDTF">2015-08-18T00:58:24Z</dcterms:modified>
  <cp:revision>150</cp:revision>
  <dc:subject/>
  <dc:title>Educación a Distancia</dc:title>
</cp:coreProperties>
</file>