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0667-A910-4788-AF37-F71DDA92A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1AA8-1726-4A92-AAB9-4461B9D4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2EC2-6E76-45BC-90A3-F399B3D4D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C710-CB23-4537-9AE7-E0B8C0E8F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E682F-AD19-4763-B75A-8210EF182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A679E-6E34-46C6-A3B0-2196C691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BBE4D-BC07-45B1-BAE4-FC67140F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47E65-E129-4425-999E-4768806A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F7422-9E20-4C53-BD36-A71678FA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B8DB9-C933-48BD-B769-445730CF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7A0BC-D09D-4DEF-8212-D75D9984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B2C4-5213-42C2-A4E8-5DBB5A34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4AB3C-3BDF-4F19-9162-21E66783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3E7B48-77BC-4E19-BD38-A4CC2B45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601C8-1896-43B2-A378-66A2A61B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D79D8-AB9C-4289-B303-58B7F989D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E2FE1-4BF3-45D5-A8C3-4DECCAD36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30C0-EAED-4152-BDD2-B14A9688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EF76-CB5A-49EB-A841-793A87FA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9082-7520-4F19-8308-7D93960D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2900-7BA4-41E7-808D-346232E6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60E5-10D8-4B78-ACDA-19F22073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2BA6-CFB8-4A34-9C9A-512A5F33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F103-63B7-4956-990F-B44792AA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B2AC-BE7C-4623-8732-C8338E409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097F-32E0-4A2B-BB11-5E10B9561E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alpo@gmx.net?subject=Educaci&#243;n%20a%20Distancia%20(web)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unam.mx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La Educación a Distanc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267080" y="5410080"/>
            <a:ext cx="47246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ffcc00"/>
                </a:solidFill>
                <a:uFillTx/>
                <a:latin typeface="Balloon Bd BT"/>
                <a:hlinkClick r:id="rId1"/>
              </a:rPr>
              <a:t>Rodrigo Poblanno Bal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Histor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l primer método que se empleó para resolver este problema fue la educación a distancia por medio del corre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l alumno se suscribe por medio de una solicitud que envía a la universidad o escuela. Luego de esto, la universidad y el suscriptor comienzan una interacción vía correo. En donde la universidad envía al alumno los temas seleccionados que se requieren para obtener los conocimien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68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Histor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Más tarde, ya que la radio habitaba en casi cada uno de los hogares del planeta, la educación a distancia por radio nació. Facilitaba una parte de su antecesor el correo, pero no del todo. La interacción alumno profesor era más difícil y la evaluación casi imposi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Histor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Casi inmediatamente la televisión fue el siguiente medio que la educación a distancia usó. Ésta facilitaba más la comprensión del alumno ya que contaba con imágenes que el alumno podía analizar y tomar como ejemplo para recibir con mayor eficiencia la educación. El problema de la evaluación seguía en pie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Histor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Con un poco más de retraso Internet y el avance en las telecomunicaciones fueron (y son) las principales vías para la educación a distanc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l inmenso crecimiento de la población con la facilidad de una computadora hicieron que se desarrollara más rápido la educación vía Intern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Temas actuale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n la actualidad hay un sinfín de universidades y escuelas “on line” las cuales brindan complejos planes de estudio para los alumn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utilización de Internet es el tema más actual de los actuales ya que brinda bajo costo y alta eficienc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Temas actuale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31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Internet y el hipertexto facilitaron de manera inmensa el avance de la educación a distancia (ead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231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l uso de grandes bases de datos facilitaron la consulta de datos que en la antigüedad tomaba semanas e incluso meses para obten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Temas actuale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multimedia creo tutoriales, cursos, manuales y libros digit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Actualmente 76 países ya cuentan con varias instituciones de E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Se cuentan con aproximadamente 180,000 alumnos en línea y más de 8 millones de usuarios de Internet han utilizado alguna vez un tuto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2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Temas actuale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s video conferencias han revolucionado la manera en que distintas universidades interactúan. Ha contribuido a la </a:t>
            </a:r>
            <a:r>
              <a:rPr b="0" lang="es-MX" sz="3200" spc="-1" strike="noStrike" u="sng">
                <a:solidFill>
                  <a:srgbClr val="ffcc00"/>
                </a:solidFill>
                <a:uFillTx/>
                <a:latin typeface="Mirarae BT"/>
                <a:hlinkClick r:id="rId1" action="ppaction://hlinksldjump"/>
              </a:rPr>
              <a:t>Investigación a Distancia</a:t>
            </a: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 y a la </a:t>
            </a:r>
            <a:r>
              <a:rPr b="0" lang="es-MX" sz="3200" spc="-1" strike="noStrike" u="sng">
                <a:solidFill>
                  <a:srgbClr val="ffcc00"/>
                </a:solidFill>
                <a:uFillTx/>
                <a:latin typeface="Mirarae BT"/>
                <a:hlinkClick r:id="rId2" action="ppaction://hlinksldjump"/>
              </a:rPr>
              <a:t>Evaluación a Distancia</a:t>
            </a: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-Learning International ha desarrollado las aulas electrónicas. Con la facilidad de rentar aulas electrónicas en muchas páginas We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920"/>
                            </p:stCondLst>
                            <p:childTnLst>
                              <p:par>
                                <p:cTn id="2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Temas Pasado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Internet ha casi desaparecido la EAD por correo ya que es más rápido, menos costoso, más diverso y cuenta con información de alrededor del mundo con la “pesada” tarea de hacer clic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EAD por radio ha sido olvidada por completo; se ha vuelto todavía más obsoleta que la EAD por radi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6080"/>
                            </p:stCondLst>
                            <p:childTnLst>
                              <p:par>
                                <p:cTn id="2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Temas Pasado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EAD televisiva (Tele-educación) sigue presente, aunque encogida por Internet y sus facilidades, en muchos países en vías de desarrollo y tercermundistas es el único medio posible para educar (enseñar a leer, a escribir, etc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¿Qué es?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Introduc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Objeti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Histo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Temas actuales, pasados y futur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valuación a dista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Investigación a dista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Conclus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2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48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32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28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Temas Futuro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n México, como en otros países, se planea tener una e-Educación. Con el objetivo de sustituir por completo la tele-Educación y promover en comunidades aisladas la edu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Varias universidades alrededor del mundo se unen a las escuelas “on line” para impartir pequeños cursos y diplom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960"/>
                            </p:stCondLst>
                            <p:childTnLst>
                              <p:par>
                                <p:cTn id="2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Temas Futuro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l ITESM (Monterrey) pone en marcha su Maestría a distancia siendo una de las pocas universidades que imparten la Maestría “on line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Evaluación a Distanc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Mirarae BT"/>
              </a:rPr>
              <a:t>Dificulta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Evaluación a Distancia ha sido un gran problema desde que la EAD nació. Los cuestionarios que utilizaban el correo en la Educación a distancia por correo, televisión y radio muchas veces no llegaban o llegaban tarde, invalidando así el resultado de la evalu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Mirarae BT"/>
              </a:rPr>
              <a:t>Dificulta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confiabilidad con la que cuentan las evaluaciones a distancia no es total, es decir, la institución no está segura de que el alumno contestó la evaluación de manera honesta: en un tiempo máximo, sin ayuda de alguien que tenga más conocimientos, sin consultar material de apoyo, etc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Evaluación a Distanc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Evaluación a Distanc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solución por el momento a la evaluación a distancia (EvAD) es el apoyo de instituciones auxiliares que ayudan a la universidad a evaluar de manera personal al alumno, certificando así que el resultado de la evaluación es realmente suy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s embajadas, consulados y otras universidades cumplen esta función en todo el mun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3818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400" spc="-1" strike="noStrike">
                <a:solidFill>
                  <a:srgbClr val="f6e564"/>
                </a:solidFill>
                <a:latin typeface="Balloon Bd BT"/>
              </a:rPr>
              <a:t>Investigación a Distancia</a:t>
            </a:r>
            <a:endParaRPr b="0" lang="en-US" sz="6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Investigación a Distancia (IAD) se creía hasta cierto punto difícil y poco eficiente pero los resultados obtenidos al momento demuestran totalmente lo contrari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l uso de video conferencias y de bibliotecas virtuales ha abierto las puertas a la IAD facilitando la colaboración internacional para la investig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680"/>
                            </p:stCondLst>
                            <p:childTnLst>
                              <p:par>
                                <p:cTn id="3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3818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400" spc="-1" strike="noStrike">
                <a:solidFill>
                  <a:srgbClr val="f6e564"/>
                </a:solidFill>
                <a:latin typeface="Balloon Bd BT"/>
              </a:rPr>
              <a:t>Investigación a Distancia</a:t>
            </a:r>
            <a:endParaRPr b="0" lang="en-US" sz="6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</a:t>
            </a:r>
            <a:r>
              <a:rPr b="0" lang="es-MX" sz="3200" spc="-1" strike="noStrike" u="sng">
                <a:solidFill>
                  <a:srgbClr val="ffcc00"/>
                </a:solidFill>
                <a:uFillTx/>
                <a:latin typeface="Mirarae BT"/>
                <a:hlinkClick r:id="rId1"/>
              </a:rPr>
              <a:t>UNAM</a:t>
            </a: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 fue la primera universidad en Latinoamérica en ofrecer la IAD a universidades de América y Europ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n México, ya muchas de las universidades cuentan con bibliotecas virtuales y con la posibilidad de efectuar video conferenci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3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400" spc="-1" strike="noStrike">
                <a:solidFill>
                  <a:srgbClr val="f6e564"/>
                </a:solidFill>
                <a:latin typeface="Balloon Bd BT"/>
              </a:rPr>
              <a:t>Conclusión</a:t>
            </a:r>
            <a:endParaRPr b="0" lang="en-US" sz="6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31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EAD ha revolucionado de manera veloz y segura la educación a nivel mund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231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Con la ayuda de la EvAD y la IAD la Educación a Distancia ha sacado al “mundo real” muchos profesionistas que actualmente trabajan en algo relacionado con su edu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640"/>
                            </p:stCondLst>
                            <p:childTnLst>
                              <p:par>
                                <p:cTn id="3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400" spc="-1" strike="noStrike">
                <a:solidFill>
                  <a:srgbClr val="f6e564"/>
                </a:solidFill>
                <a:latin typeface="Balloon Bd BT"/>
              </a:rPr>
              <a:t>Conclusión</a:t>
            </a:r>
            <a:endParaRPr b="0" lang="en-US" sz="6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31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l desarrollo que tenga Internet, la multimedia y todos los recursos que estos comparten, afectará de manera muy directa la E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Introducción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Mirarae BT"/>
              </a:rPr>
              <a:t>La Educación a Distancia es la educación “moderna” en nuestros tiempos. Es una gran herramienta en el ámbito de la educación y utiliza herramientas auxiliares como la Telecomunicación para hacerla más eficient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Mirarae BT"/>
              </a:rPr>
              <a:t>La Educación a Distancia busca proporcionar una educación efectiva a personas de cualquier edad, nivel social, nacionalidad, género, etc. La Educación a Distancia surge en base a la necesidad de adquirir conocimientos de las personas que no tienen la capacidad de tener la educación en el lugar donde residen.</a:t>
            </a: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Introducción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Mirarae BT"/>
              </a:rPr>
              <a:t>El crecimiento de Internet facilitó de manera enorme el pequeño y difícil paso que hacía falta para echarla a andar. Anteriormente la televisión era el medio más adepto para realizar la educación a distancia con ciertos problemas: la interacción alumno(s) profesor(es) se tornaba sumamente costosa y complicada, los métodos de evaluación hacia los alumnos implicaban algún tipo de interacción; en ambos la gente iba dejándolo a un lado, a pesar de las enormes necesidades que se podían tener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Introducción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Mirarae BT"/>
              </a:rPr>
              <a:t>También, en base a los efectos de Internet, la educación a distancia abarcó varios rubros que antes no cubría, como por ejempl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5840" indent="176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Mirarae BT"/>
              </a:rPr>
              <a:t>La consulta de grandes bases de datos sin la necesidad de la interacción con otro ser huma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5840" indent="176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Mirarae BT"/>
              </a:rPr>
              <a:t>La creación de problemas con la posibilidad de ser resueltos por los mismos usuarios de este tipo de edu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Introducción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Objetivo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l principal y único propósito de la Educación a Distancia, como su nombre lo dice, es educar de lej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Pero no es tan simple de decir porque la educación implica ciertos criterios de evaluación y enseñanza que, en parte, se dificultan al ser “de lejos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Proporcionar una educación útil y que sea reconocida a nivel internacional de manera que sea tan válida como la educación comú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Que la educación sea tan eficiente que en cualquier tipo de edu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Que la evaluación </a:t>
            </a:r>
            <a:r>
              <a:rPr b="1" lang="es-MX" sz="3200" spc="-1" strike="noStrike">
                <a:solidFill>
                  <a:srgbClr val="ffffff"/>
                </a:solidFill>
                <a:latin typeface="Mirarae BT"/>
              </a:rPr>
              <a:t>realmente</a:t>
            </a: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 evalúe al alumn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Objetivo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Histor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Mirarae BT"/>
              </a:rPr>
              <a:t>¿Por qué surge la Educación a Distanci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Desde hace ya aproximadamente un siglo comienza a surgir la necesidad de obtener una educación a distancia. La revolución industrial y los avances socioeconómicos de muchos países descentralizaron a la población, más no la edu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00:26:58Z</dcterms:created>
  <dc:creator>Rodrigo Poblanno Balp</dc:creator>
  <dc:description/>
  <dc:language>en-US</dc:language>
  <cp:lastModifiedBy>José Luis Villegas Valle</cp:lastModifiedBy>
  <dcterms:modified xsi:type="dcterms:W3CDTF">2015-08-18T00:58:24Z</dcterms:modified>
  <cp:revision>150</cp:revision>
  <dc:subject/>
  <dc:title>Educación a Distancia</dc:title>
</cp:coreProperties>
</file>