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158-26E1-4879-80F2-8752045A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349-9FD8-425E-8DA5-C939422C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C7F-E27E-4395-BD14-388C7677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85D-C3BF-4879-A9CA-90380174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B1BB4-3D79-4C5C-8CE4-1B80BF3D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740EC-03F3-49C4-97CB-734FFF3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D296F-73E0-446F-A49A-4322C4D2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3DDC6-4175-4EBD-95E5-F4E48E7F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F2560-89ED-4A4E-86FC-C5E3928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F0D41-31D9-4683-94E8-7CEE66A5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C95DD-9D2B-47D2-9B19-D850BDFE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B4F-11BA-4931-AF59-EF092DD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23358-2345-422D-A449-B6687DAE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EAE56-17FC-4494-A02F-2839AB26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6265C-27F8-48BE-B641-92CA4B8A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15445-DB7C-491F-BBCE-BC89103E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7C286-E1DB-4A22-A2B5-FB38A004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63A-FE64-4400-8DD4-EA8209CD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618-B4F2-4694-89CC-E5262E00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5FA-A4F3-4650-A405-051610C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C6C-20AD-4FF4-AA28-56A1F6A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A8D-24B5-4B76-93B6-88E223B4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346-7DB7-4BE8-AB3C-752FD0D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90A-ED02-4C6E-9004-94CA0DD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FC8-C8EC-4A1C-9A65-43955B75D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6B4C-EC94-4829-8634-67F3DF3641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lpo@gmx.net?subject=Educaci&#243;n%20a%20Distancia%20(web)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nam.mx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La Educ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7080" y="54100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cc00"/>
                </a:solidFill>
                <a:uFillTx/>
                <a:latin typeface="Balloon Bd BT"/>
                <a:hlinkClick r:id="rId1"/>
              </a:rPr>
              <a:t>Rodrigo Poblanno Bal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mer método que se empleó para resolver este problema fue la educación a distancia por medio del corre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alumno se suscribe por medio de una solicitud que envía a la universidad o escuela. Luego de esto, la universidad y el suscriptor comienzan una interacción vía correo. En donde la universidad envía al alumno los temas seleccionados que se requieren para obtener los conocimi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Más tarde, ya que la radio habitaba en casi cada uno de los hogares del planeta, la educación a distancia por radio nació. Facilitaba una parte de su antecesor el correo, pero no del todo. La interacción alumno profesor era más difícil y la evaluación casi impo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asi inmediatamente la televisión fue el siguiente medio que la educación a distancia usó. Ésta facilitaba más la comprensión del alumno ya que contaba con imágenes que el alumno podía analizar y tomar como ejemplo para recibir con mayor eficiencia la educación. El problema de la evaluación seguía en pi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un poco más de retraso Internet y el avance en las telecomunicaciones fueron (y son) las principales vías para la educación a dist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nmenso crecimiento de la población con la facilidad de una computadora hicieron que se desarrollara más rápido la educación vía Inter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la actualidad hay un sinfín de universidades y escuelas “on line” las cuales brindan complejos planes de estudio para los alum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utilización de Internet es el tema más actual de los actuales ya que brinda bajo costo y alta efic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y el hipertexto facilitaron de manera inmensa el avance de la educación a distancia (ea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grandes bases de datos facilitaron la consulta de datos que en la antigüedad tomaba semanas e incluso meses para obte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multimedia creo tutoriales, cursos, manuales y libros digit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Actualmente 76 países ya cuentan con varias instituciones de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Se cuentan con aproximadamente 180,000 alumnos en línea y más de 8 millones de usuarios de Internet han utilizado alguna vez un tuto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video conferencias han revolucionado la manera en que distintas universidades interactúan. Ha contribuido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 action="ppaction://hlinksldjump"/>
              </a:rPr>
              <a:t>Investig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y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2" action="ppaction://hlinksldjump"/>
              </a:rPr>
              <a:t>Evalu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-Learning International ha desarrollado las aulas electrónicas. Con la facilidad de rentar aulas electrónicas en muchas páginas We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ha casi desaparecido la EAD por correo ya que es más rápido, menos costoso, más diverso y cuenta con información de alrededor del mundo con la “pesada” tarea de hacer cli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por radio ha sido olvidada por completo; se ha vuelto todavía más obsoleta que la EAD por ra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televisiva (Tele-educación) sigue presente, aunque encogida por Internet y sus facilidades, en muchos países en vías de desarrollo y tercermundistas es el único medio posible para educar (enseñar a leer, a escribir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¿Qué es?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Temas actuales, pasados y futu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valu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vestig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clu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como en otros países, se planea tener una e-Educación. Con el objetivo de sustituir por completo la tele-Educación y promover en comunidades aisladas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Varias universidades alrededor del mundo se unen a las escuelas “on line” para impartir pequeños cursos y diplom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TESM (Monterrey) pone en marcha su Maestría a distancia siendo una de las pocas universidades que imparten la Maestría “on line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valuación a Distancia ha sido un gran problema desde que la EAD nació. Los cuestionarios que utilizaban el correo en la Educación a distancia por correo, televisión y radio muchas veces no llegaban o llegaban tarde, invalidando así el resultado de la evalu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confiabilidad con la que cuentan las evaluaciones a distancia no es total, es decir, la institución no está segura de que el alumno contestó la evaluación de manera honesta: en un tiempo máximo, sin ayuda de alguien que tenga más conocimientos, sin consultar material de apoyo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solución por el momento a la evaluación a distancia (EvAD) es el apoyo de instituciones auxiliares que ayudan a la universidad a evaluar de manera personal al alumno, certificando así que el resultado de la evaluación es realmente su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embajadas, consulados y otras universidades cumplen esta función en todo el mu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Investigación a Distancia (IAD) se creía hasta cierto punto difícil y poco eficiente pero los resultados obtenidos al momento demuestran totalmente lo contra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video conferencias y de bibliotecas virtuales ha abierto las puertas a la IAD facilitando la colaboración internacional para la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/>
              </a:rPr>
              <a:t>UNAM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fue la primera universidad en Latinoamérica en ofrecer la IAD a universidades de América y Euro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ya muchas de las universidades cuentan con bibliotecas virtuales y con la posibilidad de efectuar video conferenci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ha revolucionado de manera veloz y segura la educación a nivel mund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la ayuda de la EvAD y la IAD la Educación a Distancia ha sacado al “mundo real” muchos profesionistas que actualmente trabajan en algo relacionado con su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desarrollo que tenga Internet, la multimedia y todos los recursos que estos comparten, afectará de manera muy directa la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es la educación “moderna” en nuestros tiempos. Es una gran herramienta en el ámbito de la educación y utiliza herramientas auxiliares como la Telecomunicación para hacerla más eficien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busca proporcionar una educación efectiva a personas de cualquier edad, nivel social, nacionalidad, género, etc. La Educación a Distancia surge en base a la necesidad de adquirir conocimientos de las personas que no tienen la capacidad de tener la educación en el lugar donde residen.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El crecimiento de Internet facilitó de manera enorme el pequeño y difícil paso que hacía falta para echarla a andar. Anteriormente la televisión era el medio más adepto para realizar la educación a distancia con ciertos problemas: la interacción alumno(s) profesor(es) se tornaba sumamente costosa y complicada, los métodos de evaluación hacia los alumnos implicaban algún tipo de interacción; en ambos la gente iba dejándolo a un lado, a pesar de las enormes necesidades que se podían ten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También, en base a los efectos de Internet, la educación a distancia abarcó varios rubros que antes no cubría, como por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onsulta de grandes bases de datos sin la necesidad de la interacción con otro ser hum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reación de problemas con la posibilidad de ser resueltos por los mismos usuarios de este tipo de edu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ncipal y único propósito de la Educación a Distancia, como su nombre lo dice, es educar de lej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ero no es tan simple de decir porque la educación implica ciertos criterios de evaluación y enseñanza que, en parte, se dificultan al ser “de lejo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roporcionar una educación útil y que sea reconocida a nivel internacional de manera que sea tan válida como la educación comú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ducación sea tan eficiente que en cualquier tipo de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valuación </a:t>
            </a: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realmente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evalúe al alum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¿Por qué surge la Educación a Distanc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Desde hace ya aproximadamente un siglo comienza a surgir la necesidad de obtener una educación a distancia. La revolución industrial y los avances socioeconómicos de muchos países descentralizaron a la población, más no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0:26:58Z</dcterms:created>
  <dc:creator>Rodrigo Poblanno Balp</dc:creator>
  <dc:description/>
  <dc:language>en-US</dc:language>
  <cp:lastModifiedBy>José Luis Villegas Valle</cp:lastModifiedBy>
  <dcterms:modified xsi:type="dcterms:W3CDTF">2015-08-18T00:58:24Z</dcterms:modified>
  <cp:revision>150</cp:revision>
  <dc:subject/>
  <dc:title>Educación a Distancia</dc:title>
</cp:coreProperties>
</file>