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C6F-6C86-4B86-AC23-62ED2377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8D6-54E9-415C-A368-74EFA988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DC3-2CA8-4033-8804-753D5B40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E52-48CB-4C5C-9E62-6113BA8D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BB56C-1A65-449C-A6A5-9EE8BC7A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89E8E-359F-42FC-8DE8-70B1B9F5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1F465-EE0B-43DB-AC21-24D450EB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1AA75-1D61-4F8E-823F-45C3E2DD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BFA15-5B42-4936-A3F8-C8E7A960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E2659-2A6D-459F-AC84-137059FA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40466-FC07-4DC7-B5D0-C567C766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552-777F-41FD-96CD-8A129071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762E1-7E4D-4271-9B41-8E8FC25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63337-9CB5-4616-B831-8ECFCC6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C8FB9-881B-4019-A6DA-BC3D1A54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7B695-395D-4A6A-ABDD-B25C3AB7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DDA01-BF07-4BBB-BE40-B751C908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996-A871-41B5-9097-1EE86973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946-C89A-4FDF-A5DB-6A61E3AF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C48-FD7A-4A6D-A9F6-93C9E790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C08-5CE0-42E0-A423-B33C1F95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A6B-B769-4DE5-B1CD-23012A21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744-7A49-408E-9F7D-6F473FBE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DEA-918B-4391-93E7-782FDA3C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345D-85DF-4E68-B29B-2B7D4F9B3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A037-FDBC-4646-B9C8-A48A48FE2A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lpo@gmx.net?subject=Educaci&#243;n%20a%20Distancia%20(web)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nam.mx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La Educ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67080" y="54100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cc00"/>
                </a:solidFill>
                <a:uFillTx/>
                <a:latin typeface="Balloon Bd BT"/>
                <a:hlinkClick r:id="rId1"/>
              </a:rPr>
              <a:t>Rodrigo Poblanno Bal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primer método que se empleó para resolver este problema fue la educación a distancia por medio del corre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alumno se suscribe por medio de una solicitud que envía a la universidad o escuela. Luego de esto, la universidad y el suscriptor comienzan una interacción vía correo. En donde la universidad envía al alumno los temas seleccionados que se requieren para obtener los conocimie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Más tarde, ya que la radio habitaba en casi cada uno de los hogares del planeta, la educación a distancia por radio nació. Facilitaba una parte de su antecesor el correo, pero no del todo. La interacción alumno profesor era más difícil y la evaluación casi impo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asi inmediatamente la televisión fue el siguiente medio que la educación a distancia usó. Ésta facilitaba más la comprensión del alumno ya que contaba con imágenes que el alumno podía analizar y tomar como ejemplo para recibir con mayor eficiencia la educación. El problema de la evaluación seguía en pi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 un poco más de retraso Internet y el avance en las telecomunicaciones fueron (y son) las principales vías para la educación a dista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inmenso crecimiento de la población con la facilidad de una computadora hicieron que se desarrollara más rápido la educación vía Inter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la actualidad hay un sinfín de universidades y escuelas “on line” las cuales brindan complejos planes de estudio para los alum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utilización de Internet es el tema más actual de los actuales ya que brinda bajo costo y alta efic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ernet y el hipertexto facilitaron de manera inmensa el avance de la educación a distancia (ea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uso de grandes bases de datos facilitaron la consulta de datos que en la antigüedad tomaba semanas e incluso meses para obte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multimedia creo tutoriales, cursos, manuales y libros digit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Actualmente 76 países ya cuentan con varias instituciones de 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Se cuentan con aproximadamente 180,000 alumnos en línea y más de 8 millones de usuarios de Internet han utilizado alguna vez un tuto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s video conferencias han revolucionado la manera en que distintas universidades interactúan. Ha contribuido a 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1" action="ppaction://hlinksldjump"/>
              </a:rPr>
              <a:t>Investigación a Distancia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y a 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2" action="ppaction://hlinksldjump"/>
              </a:rPr>
              <a:t>Evaluación a Distancia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-Learning International ha desarrollado las aulas electrónicas. Con la facilidad de rentar aulas electrónicas en muchas páginas We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Pasad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ernet ha casi desaparecido la EAD por correo ya que es más rápido, menos costoso, más diverso y cuenta con información de alrededor del mundo con la “pesada” tarea de hacer cli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por radio ha sido olvidada por completo; se ha vuelto todavía más obsoleta que la EAD por ra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Pasad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televisiva (Tele-educación) sigue presente, aunque encogida por Internet y sus facilidades, en muchos países en vías de desarrollo y tercermundistas es el único medio posible para educar (enseñar a leer, a escribir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¿Qué es?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Temas actuales, pasados y futu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valuación 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vestigación 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clu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28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Futur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México, como en otros países, se planea tener una e-Educación. Con el objetivo de sustituir por completo la tele-Educación y promover en comunidades aisladas la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Varias universidades alrededor del mundo se unen a las escuelas “on line” para impartir pequeños cursos y diplom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Futur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ITESM (Monterrey) pone en marcha su Maestría a distancia siendo una de las pocas universidades que imparten la Maestría “on line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Dificult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valuación a Distancia ha sido un gran problema desde que la EAD nació. Los cuestionarios que utilizaban el correo en la Educación a distancia por correo, televisión y radio muchas veces no llegaban o llegaban tarde, invalidando así el resultado de la evalu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Mirarae BT"/>
              </a:rPr>
              <a:t>Dificult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confiabilidad con la que cuentan las evaluaciones a distancia no es total, es decir, la institución no está segura de que el alumno contestó la evaluación de manera honesta: en un tiempo máximo, sin ayuda de alguien que tenga más conocimientos, sin consultar material de apoyo,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solución por el momento a la evaluación a distancia (EvAD) es el apoyo de instituciones auxiliares que ayudan a la universidad a evaluar de manera personal al alumno, certificando así que el resultado de la evaluación es realmente suy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s embajadas, consulados y otras universidades cumplen esta función en todo el mun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Investigación a Distancia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Investigación a Distancia (IAD) se creía hasta cierto punto difícil y poco eficiente pero los resultados obtenidos al momento demuestran totalmente lo contrar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uso de video conferencias y de bibliotecas virtuales ha abierto las puertas a la IAD facilitando la colaboración internacional para la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8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Investigación a Distancia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1"/>
              </a:rPr>
              <a:t>UNAM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fue la primera universidad en Latinoamérica en ofrecer la IAD a universidades de América y Euro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México, ya muchas de las universidades cuentan con bibliotecas virtuales y con la posibilidad de efectuar video conferenci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Conclusión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ha revolucionado de manera veloz y segura la educación a nivel mund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 la ayuda de la EvAD y la IAD la Educación a Distancia ha sacado al “mundo real” muchos profesionistas que actualmente trabajan en algo relacionado con su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Conclusión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desarrollo que tenga Internet, la multimedia y todos los recursos que estos comparten, afectará de manera muy directa la 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La Educación a Distancia es la educación “moderna” en nuestros tiempos. Es una gran herramienta en el ámbito de la educación y utiliza herramientas auxiliares como la Telecomunicación para hacerla más eficient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La Educación a Distancia busca proporcionar una educación efectiva a personas de cualquier edad, nivel social, nacionalidad, género, etc. La Educación a Distancia surge en base a la necesidad de adquirir conocimientos de las personas que no tienen la capacidad de tener la educación en el lugar donde residen.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El crecimiento de Internet facilitó de manera enorme el pequeño y difícil paso que hacía falta para echarla a andar. Anteriormente la televisión era el medio más adepto para realizar la educación a distancia con ciertos problemas: la interacción alumno(s) profesor(es) se tornaba sumamente costosa y complicada, los métodos de evaluación hacia los alumnos implicaban algún tipo de interacción; en ambos la gente iba dejándolo a un lado, a pesar de las enormes necesidades que se podían ten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También, en base a los efectos de Internet, la educación a distancia abarcó varios rubros que antes no cubría, como por 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176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La consulta de grandes bases de datos sin la necesidad de la interacción con otro ser huma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176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La creación de problemas con la posibilidad de ser resueltos por los mismos usuarios de este tipo de edu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Objetiv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principal y único propósito de la Educación a Distancia, como su nombre lo dice, es educar de lej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Pero no es tan simple de decir porque la educación implica ciertos criterios de evaluación y enseñanza que, en parte, se dificultan al ser “de lejo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Proporcionar una educación útil y que sea reconocida a nivel internacional de manera que sea tan válida como la educación comú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Que la educación sea tan eficiente que en cualquier tipo de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Que la evaluación </a:t>
            </a: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realmente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evalúe al alum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Objetiv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¿Por qué surge la Educación a Distanci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Desde hace ya aproximadamente un siglo comienza a surgir la necesidad de obtener una educación a distancia. La revolución industrial y los avances socioeconómicos de muchos países descentralizaron a la población, más no la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0:26:58Z</dcterms:created>
  <dc:creator>Rodrigo Poblanno Balp</dc:creator>
  <dc:description/>
  <dc:language>en-US</dc:language>
  <cp:lastModifiedBy>José Luis Villegas Valle</cp:lastModifiedBy>
  <dcterms:modified xsi:type="dcterms:W3CDTF">2015-08-18T00:58:24Z</dcterms:modified>
  <cp:revision>150</cp:revision>
  <dc:subject/>
  <dc:title>Educación a Distancia</dc:title>
</cp:coreProperties>
</file>