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373-08E7-41CE-B18E-DF74E561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B4B-60FA-4071-AF34-61E01BE2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F49-839B-4CC7-91B2-45CEDD97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ED9-ABEB-4BC7-9AC5-08F21462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9D514-03BF-4205-9014-85A77066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5205D-3E26-4BB0-BF5D-3B9104AE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5ECFB-0AF3-4A29-9B4B-5E1002FE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1BC10-2247-44EF-88E0-F15BFFA9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2A092-876F-4D74-B266-233EAC3E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B67A-34AD-4372-B337-1BD20ED3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48C02-D02F-4949-ABFC-6F9BFD6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8FC-5E0F-41AB-93F5-ECE826C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7022F-A7C0-4A8F-A1D2-FFDEAD5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A0DA4-15F5-44E1-A4FC-1F7109E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D10C4-E5B0-4A4C-BAB5-3A71293B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89F2-4315-4C6B-B123-9162AA78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87E85-1D15-4CD5-B2C4-701B9672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B8B-D3DB-4508-B879-71AF1844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249-1129-460D-9DC9-53DC53EC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EF0-C598-438C-A7A8-541CB496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70A-3250-4AE0-97E9-7AFA024C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19D-6A02-4603-AC00-9981F2F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18A-AD58-4ECF-A8EC-64A2F5F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8BE-837C-4055-B1FE-2223F978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199C-4082-4C83-957F-DAC44F251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44EE-9DDC-40D6-89A6-58F3887E8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lpo@gmx.net?subject=Educaci&#243;n%20a%20Distancia%20(web)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nam.mx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La Educ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67080" y="54100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ffcc00"/>
                </a:solidFill>
                <a:uFillTx/>
                <a:latin typeface="Balloon Bd BT"/>
                <a:hlinkClick r:id="rId1"/>
              </a:rPr>
              <a:t>Rodrigo Poblanno Bal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mer método que se empleó para resolver este problema fue la educación a distancia por medio del corre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alumno se suscribe por medio de una solicitud que envía a la universidad o escuela. Luego de esto, la universidad y el suscriptor comienzan una interacción vía correo. En donde la universidad envía al alumno los temas seleccionados que se requieren para obtener los conocimie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Más tarde, ya que la radio habitaba en casi cada uno de los hogares del planeta, la educación a distancia por radio nació. Facilitaba una parte de su antecesor el correo, pero no del todo. La interacción alumno profesor era más difícil y la evaluación casi impo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asi inmediatamente la televisión fue el siguiente medio que la educación a distancia usó. Ésta facilitaba más la comprensión del alumno ya que contaba con imágenes que el alumno podía analizar y tomar como ejemplo para recibir con mayor eficiencia la educación. El problema de la evaluación seguía en pi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un poco más de retraso Internet y el avance en las telecomunicaciones fueron (y son) las principales vías para la educación a dista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nmenso crecimiento de la población con la facilidad de una computadora hicieron que se desarrollara más rápido la educación vía Intern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la actualidad hay un sinfín de universidades y escuelas “on line” las cuales brindan complejos planes de estudio para los alum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utilización de Internet es el tema más actual de los actuales ya que brinda bajo costo y alta efici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y el hipertexto facilitaron de manera inmensa el avance de la educación a distancia (ea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grandes bases de datos facilitaron la consulta de datos que en la antigüedad tomaba semanas e incluso meses para obte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multimedia creo tutoriales, cursos, manuales y libros digit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Actualmente 76 países ya cuentan con varias instituciones de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Se cuentan con aproximadamente 180,000 alumnos en línea y más de 8 millones de usuarios de Internet han utilizado alguna vez un tuto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actuale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video conferencias han revolucionado la manera en que distintas universidades interactúan. Ha contribuido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 action="ppaction://hlinksldjump"/>
              </a:rPr>
              <a:t>Investig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y a 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2" action="ppaction://hlinksldjump"/>
              </a:rPr>
              <a:t>Evaluación a Distancia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-Learning International ha desarrollado las aulas electrónicas. Con la facilidad de rentar aulas electrónicas en muchas páginas We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ernet ha casi desaparecido la EAD por correo ya que es más rápido, menos costoso, más diverso y cuenta con información de alrededor del mundo con la “pesada” tarea de hacer cli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por radio ha sido olvidada por completo; se ha vuelto todavía más obsoleta que la EAD por rad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Pasad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televisiva (Tele-educación) sigue presente, aunque encogida por Internet y sus facilidades, en muchos países en vías de desarrollo y tercermundistas es el único medio posible para educar (enseñar a leer, a escribir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¿Qué es?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Temas actuales, pasados y futu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valu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Investigación a dis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28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como en otros países, se planea tener una e-Educación. Con el objetivo de sustituir por completo la tele-Educación y promover en comunidades aisladas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Varias universidades alrededor del mundo se unen a las escuelas “on line” para impartir pequeños cursos y diplom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Temas Futur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ITESM (Monterrey) pone en marcha su Maestría a distancia siendo una de las pocas universidades que imparten la Maestría “on lin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valuación a Distancia ha sido un gran problema desde que la EAD nació. Los cuestionarios que utilizaban el correo en la Educación a distancia por correo, televisión y radio muchas veces no llegaban o llegaban tarde, invalidando así el resultado de la evalu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Mirarae BT"/>
              </a:rPr>
              <a:t>Dificult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confiabilidad con la que cuentan las evaluaciones a distancia no es total, es decir, la institución no está segura de que el alumno contestó la evaluación de manera honesta: en un tiempo máximo, sin ayuda de alguien que tenga más conocimientos, sin consultar material de apoyo, et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Evaluación a Distanc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solución por el momento a la evaluación a distancia (EvAD) es el apoyo de instituciones auxiliares que ayudan a la universidad a evaluar de manera personal al alumno, certificando así que el resultado de la evaluación es realmente su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s embajadas, consulados y otras universidades cumplen esta función en todo el mun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Investigación a Distancia (IAD) se creía hasta cierto punto difícil y poco eficiente pero los resultados obtenidos al momento demuestran totalmente lo contrari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uso de video conferencias y de bibliotecas virtuales ha abierto las puertas a la IAD facilitando la colaboración internacional para la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8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3818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Investigación a Distancia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</a:t>
            </a:r>
            <a:r>
              <a:rPr b="0" lang="es-MX" sz="3200" spc="-1" strike="noStrike" u="sng">
                <a:solidFill>
                  <a:srgbClr val="ffcc00"/>
                </a:solidFill>
                <a:uFillTx/>
                <a:latin typeface="Mirarae BT"/>
                <a:hlinkClick r:id="rId1"/>
              </a:rPr>
              <a:t>UNAM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fue la primera universidad en Latinoamérica en ofrecer la IAD a universidades de América y Europ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n México, ya muchas de las universidades cuentan con bibliotecas virtuales y con la posibilidad de efectuar video conferenci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La EAD ha revolucionado de manera veloz y segura la educación a nivel mund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Con la ayuda de la EvAD y la IAD la Educación a Distancia ha sacado al “mundo real” muchos profesionistas que actualmente trabajan en algo relacionado con su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400" spc="-1" strike="noStrike">
                <a:solidFill>
                  <a:srgbClr val="f6e564"/>
                </a:solidFill>
                <a:latin typeface="Balloon Bd BT"/>
              </a:rPr>
              <a:t>Conclusión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31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desarrollo que tenga Internet, la multimedia y todos los recursos que estos comparten, afectará de manera muy directa la E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es la educación “moderna” en nuestros tiempos. Es una gran herramienta en el ámbito de la educación y utiliza herramientas auxiliares como la Telecomunicación para hacerla más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La Educación a Distancia busca proporcionar una educación efectiva a personas de cualquier edad, nivel social, nacionalidad, género, etc. La Educación a Distancia surge en base a la necesidad de adquirir conocimientos de las personas que no tienen la capacidad de tener la educación en el lugar donde residen.</a:t>
            </a:r>
            <a:r>
              <a:rPr b="0" lang="es-MX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Mirarae BT"/>
              </a:rPr>
              <a:t>El crecimiento de Internet facilitó de manera enorme el pequeño y difícil paso que hacía falta para echarla a andar. Anteriormente la televisión era el medio más adepto para realizar la educación a distancia con ciertos problemas: la interacción alumno(s) profesor(es) se tornaba sumamente costosa y complicada, los métodos de evaluación hacia los alumnos implicaban algún tipo de interacción; en ambos la gente iba dejándolo a un lado, a pesar de las enormes necesidades que se podían ten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También, en base a los efectos de Internet, la educación a distancia abarcó varios rubros que antes no cubría, como por 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onsulta de grandes bases de datos sin la necesidad de la interacción con otro ser huma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5840" indent="176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Mirarae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Mirarae BT"/>
              </a:rPr>
              <a:t>La creación de problemas con la posibilidad de ser resueltos por los mismos usuarios de este tipo de edu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Introducción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El principal y único propósito de la Educación a Distancia, como su nombre lo dice, es educar de lej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ero no es tan simple de decir porque la educación implica ciertos criterios de evaluación y enseñanza que, en parte, se dificultan al ser “de lejos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Proporcionar una educación útil y que sea reconocida a nivel internacional de manera que sea tan válida como la educación comú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ducación sea tan eficiente que en cualquier tipo de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Que la evaluación </a:t>
            </a: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realmente</a:t>
            </a: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 evalúe al alum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Objetivos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0" spc="-1" strike="noStrike">
                <a:solidFill>
                  <a:srgbClr val="f6e564"/>
                </a:solidFill>
                <a:latin typeface="Balloon Bd BT"/>
              </a:rPr>
              <a:t>Historia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Mirarae BT"/>
              </a:rPr>
              <a:t>¿Por qué surge la Educación a Distanci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Mirarae BT"/>
              </a:rPr>
              <a:t>Desde hace ya aproximadamente un siglo comienza a surgir la necesidad de obtener una educación a distancia. La revolución industrial y los avances socioeconómicos de muchos países descentralizaron a la población, más no la edu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0:26:58Z</dcterms:created>
  <dc:creator>Rodrigo Poblanno Balp</dc:creator>
  <dc:description/>
  <dc:language>en-US</dc:language>
  <cp:lastModifiedBy>José Luis Villegas Valle</cp:lastModifiedBy>
  <dcterms:modified xsi:type="dcterms:W3CDTF">2015-08-18T00:58:24Z</dcterms:modified>
  <cp:revision>150</cp:revision>
  <dc:subject/>
  <dc:title>Educación a Distancia</dc:title>
</cp:coreProperties>
</file>