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B11-3D3B-45A4-B365-A7CE964E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882-57AC-48B7-8ECA-C66EC228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80E-9128-404F-BA4B-99A874AB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261-75E7-4370-99AB-23A8121D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C7E-0C09-4E73-9A9D-D8E25660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594-4CB1-43B4-A6F2-CA425D32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ECF-FA04-4D57-8E80-F8859F17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1BE-BD14-4D33-8714-8A87BDCE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F09-8D28-4430-9A19-5FBAC22C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255-744E-4EE8-A63B-1F5AEFBD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05E-E27F-4393-B9A1-43E4B1D1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9BF-AC30-411C-9C18-92E59447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D14B-BBF5-4041-9061-FF1A146865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360" y="1125360"/>
            <a:ext cx="6121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Universidad Autónoma de Tlaxcala</a:t>
            </a:r>
            <a:br>
              <a:rPr sz="3200"/>
            </a:b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Facultad de Ciencias de la Educación</a:t>
            </a:r>
            <a:br>
              <a:rPr sz="2400"/>
            </a:b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Lic. Ciencias de la Edu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n 4" descr=""/>
          <p:cNvPicPr/>
          <p:nvPr/>
        </p:nvPicPr>
        <p:blipFill>
          <a:blip r:embed="rId1"/>
          <a:stretch/>
        </p:blipFill>
        <p:spPr>
          <a:xfrm>
            <a:off x="6516720" y="3008160"/>
            <a:ext cx="2482920" cy="3849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50"/>
          <p:cNvSpPr/>
          <p:nvPr/>
        </p:nvSpPr>
        <p:spPr>
          <a:xfrm>
            <a:off x="2268360" y="4005360"/>
            <a:ext cx="38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Prime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2520" y="336240"/>
            <a:ext cx="367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3160" y="17733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Al inicio de este curso, mis expectativas sobre la unidad de aprendizaje fueron amplias; me alegra bastante haberlas superado al darme cuenta de que se puede cambiar la metodología de enseñanza-aprendizaje al buscar diversas opciones didácticas haciendo uso de las TIC’s a fin de despertar el interés en los estudia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n 1" descr=""/>
          <p:cNvPicPr/>
          <p:nvPr/>
        </p:nvPicPr>
        <p:blipFill>
          <a:blip r:embed="rId2"/>
          <a:stretch/>
        </p:blipFill>
        <p:spPr>
          <a:xfrm>
            <a:off x="4067280" y="338040"/>
            <a:ext cx="4870440" cy="3934080"/>
          </a:xfrm>
          <a:prstGeom prst="rect">
            <a:avLst/>
          </a:prstGeom>
          <a:ln w="0">
            <a:noFill/>
          </a:ln>
        </p:spPr>
      </p:pic>
      <p:sp>
        <p:nvSpPr>
          <p:cNvPr id="47" name="CuadroTexto 2"/>
          <p:cNvSpPr/>
          <p:nvPr/>
        </p:nvSpPr>
        <p:spPr>
          <a:xfrm flipH="1" flipV="1" rot="10800000">
            <a:off x="4066200" y="4437000"/>
            <a:ext cx="487044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actividades elaboradas hasta ahora, han propiciado los suficientes aprendizajes significativos para poder aplicarlos en un futuro, y el primer parcial solo es el comienzo de muchas estrategias que aprenderemos en este curs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40" y="7948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1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22320" y="28335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 ciego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 de integr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mosc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adroTexto 2"/>
          <p:cNvSpPr/>
          <p:nvPr/>
        </p:nvSpPr>
        <p:spPr>
          <a:xfrm flipH="1" flipV="1" rot="10800000">
            <a:off x="4066200" y="4921200"/>
            <a:ext cx="487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istoria de la Educación a distanc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tecedentes de la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n 5" descr=""/>
          <p:cNvPicPr/>
          <p:nvPr/>
        </p:nvPicPr>
        <p:blipFill>
          <a:blip r:embed="rId2"/>
          <a:stretch/>
        </p:blipFill>
        <p:spPr>
          <a:xfrm>
            <a:off x="4070520" y="620640"/>
            <a:ext cx="4500360" cy="3672000"/>
          </a:xfrm>
          <a:prstGeom prst="rect">
            <a:avLst/>
          </a:prstGeom>
          <a:ln cap="sq" w="127080">
            <a:solidFill>
              <a:srgbClr val="66ffff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40" y="7948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2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Mis zapatos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od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2"/>
          <p:cNvSpPr/>
          <p:nvPr/>
        </p:nvSpPr>
        <p:spPr>
          <a:xfrm flipH="1" flipV="1" rot="10800000">
            <a:off x="3419640" y="4921200"/>
            <a:ext cx="551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incipios y tendencias de la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cia una definición de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1" descr=""/>
          <p:cNvPicPr/>
          <p:nvPr/>
        </p:nvPicPr>
        <p:blipFill>
          <a:blip r:embed="rId2"/>
          <a:stretch/>
        </p:blipFill>
        <p:spPr>
          <a:xfrm>
            <a:off x="3591000" y="404640"/>
            <a:ext cx="5013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52360" y="8362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3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vasija agrietad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Fotonove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n 4" descr=""/>
          <p:cNvPicPr/>
          <p:nvPr/>
        </p:nvPicPr>
        <p:blipFill>
          <a:blip r:embed="rId2"/>
          <a:stretch/>
        </p:blipFill>
        <p:spPr>
          <a:xfrm>
            <a:off x="3533760" y="620640"/>
            <a:ext cx="5113440" cy="4103640"/>
          </a:xfrm>
          <a:prstGeom prst="rect">
            <a:avLst/>
          </a:prstGeom>
          <a:ln w="0">
            <a:noFill/>
          </a:ln>
        </p:spPr>
      </p:pic>
      <p:sp>
        <p:nvSpPr>
          <p:cNvPr id="59" name="CuadroTexto 5"/>
          <p:cNvSpPr/>
          <p:nvPr/>
        </p:nvSpPr>
        <p:spPr>
          <a:xfrm>
            <a:off x="3533760" y="486900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ponentes y características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latafor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252360" y="8362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4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 maestro y el escorpión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echa Kuch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3" descr=""/>
          <p:cNvPicPr/>
          <p:nvPr/>
        </p:nvPicPr>
        <p:blipFill>
          <a:blip r:embed="rId2"/>
          <a:stretch/>
        </p:blipFill>
        <p:spPr>
          <a:xfrm>
            <a:off x="3276720" y="549360"/>
            <a:ext cx="572292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CuadroTexto 5"/>
          <p:cNvSpPr/>
          <p:nvPr/>
        </p:nvSpPr>
        <p:spPr>
          <a:xfrm flipH="1" flipV="1" rot="10800000">
            <a:off x="3379680" y="5244840"/>
            <a:ext cx="55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delos de Educación a distanc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2520" y="336240"/>
            <a:ext cx="367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i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3160" y="17733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 visto durante este primer parcial, nos ayudará bastante a lo largo de nuestra futura carrera como docentes, las nuevas estrategias y la motivación y el apoyo que hemos tenido por parte del profesor nos sirven para ser mejores personas y buenos profesores en un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uadroTexto 2"/>
          <p:cNvSpPr/>
          <p:nvPr/>
        </p:nvSpPr>
        <p:spPr>
          <a:xfrm flipH="1" flipV="1" rot="10800000">
            <a:off x="4066200" y="4437000"/>
            <a:ext cx="487044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actividades elaboradas hasta ahora, han propiciado los suficientes aprendizajes significativos para poder aplicarlos en un momento determinado, y el primer parcial solo es el comienzo de muchas estrategias que aprenderemos en este curs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n 3" descr=""/>
          <p:cNvPicPr/>
          <p:nvPr/>
        </p:nvPicPr>
        <p:blipFill>
          <a:blip r:embed="rId2"/>
          <a:stretch/>
        </p:blipFill>
        <p:spPr>
          <a:xfrm>
            <a:off x="4006800" y="336600"/>
            <a:ext cx="4991040" cy="381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reli</cp:lastModifiedBy>
  <dcterms:modified xsi:type="dcterms:W3CDTF">2015-09-17T23:13:55Z</dcterms:modified>
  <cp:revision>655</cp:revision>
  <dc:subject/>
  <dc:title>Diapositiva 1</dc:title>
</cp:coreProperties>
</file>