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5FB-FEC8-45DA-8FDA-927A0432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64D-1963-4209-9A0A-3ABD5BF2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4AF-7357-4F46-9904-C4185D15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E84-34C2-4081-87E3-BB80531E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1B0-BF48-42DE-8EFF-A1590AFF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12B-C0F6-408F-9B97-42054D57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F69-50C0-4400-A702-15C3BB14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6D8-F944-420A-B01E-396CD13D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A48-DD16-4470-A975-8AC59311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D49-607B-4B0B-9BAA-41600A2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190-A3AF-4E04-B122-FF92653A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2FF-4AA1-477B-BC2D-B92DDBCA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6BC5-8DE2-4539-9B63-59AA43016E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Universidad Autónoma de Tlaxcala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Facultad de Ciencias de la Educación</a:t>
            </a:r>
            <a:br>
              <a:rPr sz="2400"/>
            </a:b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Lic. Ciencias de la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4" descr=""/>
          <p:cNvPicPr/>
          <p:nvPr/>
        </p:nvPicPr>
        <p:blipFill>
          <a:blip r:embed="rId1"/>
          <a:stretch/>
        </p:blipFill>
        <p:spPr>
          <a:xfrm>
            <a:off x="6516720" y="3008160"/>
            <a:ext cx="2482920" cy="3849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0"/>
          <p:cNvSpPr/>
          <p:nvPr/>
        </p:nvSpPr>
        <p:spPr>
          <a:xfrm>
            <a:off x="2268360" y="400536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ime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l inicio de este curso, mis expectativas sobre la unidad de aprendizaje fueron amplias; me alegra bastante haberlas superado al darme cuenta de que se puede cambiar la metodología de enseñanza-aprendizaje al buscar diversas opciones didácticas haciendo uso de las TIC’s a fin de despertar el interés en los estudi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1" descr=""/>
          <p:cNvPicPr/>
          <p:nvPr/>
        </p:nvPicPr>
        <p:blipFill>
          <a:blip r:embed="rId2"/>
          <a:stretch/>
        </p:blipFill>
        <p:spPr>
          <a:xfrm>
            <a:off x="4067280" y="338040"/>
            <a:ext cx="4870440" cy="3934080"/>
          </a:xfrm>
          <a:prstGeom prst="rect">
            <a:avLst/>
          </a:prstGeom>
          <a:ln w="0">
            <a:noFill/>
          </a:ln>
        </p:spPr>
      </p:pic>
      <p:sp>
        <p:nvSpPr>
          <p:cNvPr id="47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futur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1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2320" y="28335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cie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 de integr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mos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Texto 2"/>
          <p:cNvSpPr/>
          <p:nvPr/>
        </p:nvSpPr>
        <p:spPr>
          <a:xfrm flipH="1" flipV="1" rot="10800000">
            <a:off x="4066200" y="4921200"/>
            <a:ext cx="48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storia de la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5" descr=""/>
          <p:cNvPicPr/>
          <p:nvPr/>
        </p:nvPicPr>
        <p:blipFill>
          <a:blip r:embed="rId2"/>
          <a:stretch/>
        </p:blipFill>
        <p:spPr>
          <a:xfrm>
            <a:off x="4070520" y="620640"/>
            <a:ext cx="4500360" cy="3672000"/>
          </a:xfrm>
          <a:prstGeom prst="rect">
            <a:avLst/>
          </a:prstGeom>
          <a:ln cap="sq" w="127080">
            <a:solidFill>
              <a:srgbClr val="66ff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2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Mis zapato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2"/>
          <p:cNvSpPr/>
          <p:nvPr/>
        </p:nvSpPr>
        <p:spPr>
          <a:xfrm flipH="1" flipV="1" rot="10800000">
            <a:off x="3419640" y="4921200"/>
            <a:ext cx="551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ncipios y tendencia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cia una definición de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3591000" y="404640"/>
            <a:ext cx="5013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3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vasija agrietad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Fotonove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4" descr=""/>
          <p:cNvPicPr/>
          <p:nvPr/>
        </p:nvPicPr>
        <p:blipFill>
          <a:blip r:embed="rId2"/>
          <a:stretch/>
        </p:blipFill>
        <p:spPr>
          <a:xfrm>
            <a:off x="3533760" y="620640"/>
            <a:ext cx="511344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5"/>
          <p:cNvSpPr/>
          <p:nvPr/>
        </p:nvSpPr>
        <p:spPr>
          <a:xfrm>
            <a:off x="3533760" y="486900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onentes y característica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4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maestro y el escorpión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echa Ku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572292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5"/>
          <p:cNvSpPr/>
          <p:nvPr/>
        </p:nvSpPr>
        <p:spPr>
          <a:xfrm flipH="1" flipV="1" rot="10800000">
            <a:off x="3379680" y="5244840"/>
            <a:ext cx="55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delos de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 visto durante este primer parcial, nos ayudará bastante a lo largo de nuestra futura carrera como docentes, las nuevas estrategias y la motivación y el apoyo que hemos tenido por parte del profesor nos sirven para ser mejores personas y buenos profesores en un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momento determinad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3" descr=""/>
          <p:cNvPicPr/>
          <p:nvPr/>
        </p:nvPicPr>
        <p:blipFill>
          <a:blip r:embed="rId2"/>
          <a:stretch/>
        </p:blipFill>
        <p:spPr>
          <a:xfrm>
            <a:off x="4006800" y="336600"/>
            <a:ext cx="4991040" cy="38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reli</cp:lastModifiedBy>
  <dcterms:modified xsi:type="dcterms:W3CDTF">2015-09-17T23:13:55Z</dcterms:modified>
  <cp:revision>655</cp:revision>
  <dc:subject/>
  <dc:title>Diapositiva 1</dc:title>
</cp:coreProperties>
</file>