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F867-BBF4-4DF8-AF45-E2C1CB83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D24-6453-43BA-BD60-684B0869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BE9-AD0E-4597-8328-5A533DD8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913-AF59-4998-8386-E2AECC48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F3B-8572-49D9-A47F-8F7B1CF7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EF3-908C-48C9-900F-F2CF7815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4EEA-C0BC-44E7-BEA0-A5741279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2D9-BED1-4DAA-AF12-09DCB83B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0D1-F86D-4B4F-ABB6-B16766B9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7FF-EDA0-4286-9936-454B2955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937-CB66-4731-A73C-DFD75736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6E9-2CED-4DAB-8EAD-F47111B5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35AC-1F58-4BE5-9E9E-120C006A04E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84360" y="112536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Universidad Autónoma de Tlaxcala</a:t>
            </a:r>
            <a:br>
              <a:rPr sz="3200"/>
            </a:b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Facultad de Ciencias de la Educación</a:t>
            </a:r>
            <a:br>
              <a:rPr sz="2400"/>
            </a:b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Lic. Ciencias de la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n 4" descr=""/>
          <p:cNvPicPr/>
          <p:nvPr/>
        </p:nvPicPr>
        <p:blipFill>
          <a:blip r:embed="rId1"/>
          <a:stretch/>
        </p:blipFill>
        <p:spPr>
          <a:xfrm>
            <a:off x="6516720" y="3008160"/>
            <a:ext cx="2482920" cy="3849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50"/>
          <p:cNvSpPr/>
          <p:nvPr/>
        </p:nvSpPr>
        <p:spPr>
          <a:xfrm>
            <a:off x="2268360" y="400536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Prime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l inicio de este curso, mis expectativas sobre la unidad de aprendizaje fueron amplias; me alegra bastante haberlas superado al darme cuenta de que se puede cambiar la metodología de enseñanza-aprendizaje al buscar diversas opciones didácticas haciendo uso de las TIC’s a fin de despertar el interés en los estudi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1" descr=""/>
          <p:cNvPicPr/>
          <p:nvPr/>
        </p:nvPicPr>
        <p:blipFill>
          <a:blip r:embed="rId2"/>
          <a:stretch/>
        </p:blipFill>
        <p:spPr>
          <a:xfrm>
            <a:off x="4067280" y="338040"/>
            <a:ext cx="4870440" cy="3934080"/>
          </a:xfrm>
          <a:prstGeom prst="rect">
            <a:avLst/>
          </a:prstGeom>
          <a:ln w="0">
            <a:noFill/>
          </a:ln>
        </p:spPr>
      </p:pic>
      <p:sp>
        <p:nvSpPr>
          <p:cNvPr id="47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futur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1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22320" y="28335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ciego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 de integr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mosc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adroTexto 2"/>
          <p:cNvSpPr/>
          <p:nvPr/>
        </p:nvSpPr>
        <p:spPr>
          <a:xfrm flipH="1" flipV="1" rot="10800000">
            <a:off x="4066200" y="4921200"/>
            <a:ext cx="48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istoria de la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n 5" descr=""/>
          <p:cNvPicPr/>
          <p:nvPr/>
        </p:nvPicPr>
        <p:blipFill>
          <a:blip r:embed="rId2"/>
          <a:stretch/>
        </p:blipFill>
        <p:spPr>
          <a:xfrm>
            <a:off x="4070520" y="620640"/>
            <a:ext cx="4500360" cy="3672000"/>
          </a:xfrm>
          <a:prstGeom prst="rect">
            <a:avLst/>
          </a:prstGeom>
          <a:ln cap="sq" w="127080">
            <a:solidFill>
              <a:srgbClr val="66ffff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40" y="7948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2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Mis zapatos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2"/>
          <p:cNvSpPr/>
          <p:nvPr/>
        </p:nvSpPr>
        <p:spPr>
          <a:xfrm flipH="1" flipV="1" rot="10800000">
            <a:off x="3419640" y="4921200"/>
            <a:ext cx="551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incipios y tendencias de la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cia una definición de Ea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1" descr=""/>
          <p:cNvPicPr/>
          <p:nvPr/>
        </p:nvPicPr>
        <p:blipFill>
          <a:blip r:embed="rId2"/>
          <a:stretch/>
        </p:blipFill>
        <p:spPr>
          <a:xfrm>
            <a:off x="3591000" y="404640"/>
            <a:ext cx="5013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3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vasija agrietada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Fotonove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n 4" descr=""/>
          <p:cNvPicPr/>
          <p:nvPr/>
        </p:nvPicPr>
        <p:blipFill>
          <a:blip r:embed="rId2"/>
          <a:stretch/>
        </p:blipFill>
        <p:spPr>
          <a:xfrm>
            <a:off x="3533760" y="620640"/>
            <a:ext cx="511344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CuadroTexto 5"/>
          <p:cNvSpPr/>
          <p:nvPr/>
        </p:nvSpPr>
        <p:spPr>
          <a:xfrm>
            <a:off x="3533760" y="486900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onentes y características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252360" y="836280"/>
            <a:ext cx="367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4°</a:t>
            </a:r>
            <a:br>
              <a:rPr sz="5400"/>
            </a:b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S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76400" y="3357360"/>
            <a:ext cx="377172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Reflexión:</a:t>
            </a:r>
            <a:br>
              <a:rPr sz="21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maestro y el escorpión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Activid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echa Kuch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572292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CuadroTexto 5"/>
          <p:cNvSpPr/>
          <p:nvPr/>
        </p:nvSpPr>
        <p:spPr>
          <a:xfrm flipH="1" flipV="1" rot="10800000">
            <a:off x="3379680" y="5244840"/>
            <a:ext cx="55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delos de Educación a distanc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520" y="336240"/>
            <a:ext cx="367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ier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160" y="1773360"/>
            <a:ext cx="3773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 visto durante este primer parcial, nos ayudará bastante a lo largo de nuestra futura carrera como docentes, las nuevas estrategias y la motivación y el apoyo que hemos tenido por parte del profesor nos sirven para ser mejores personas y buenos profesores en un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adroTexto 2"/>
          <p:cNvSpPr/>
          <p:nvPr/>
        </p:nvSpPr>
        <p:spPr>
          <a:xfrm flipH="1" flipV="1" rot="10800000">
            <a:off x="4066200" y="4437000"/>
            <a:ext cx="4870440" cy="23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actividades elaboradas hasta ahora, han propiciado los suficientes aprendizajes significativos para poder aplicarlos en un momento determinado, y el primer parcial solo es el comienzo de muchas estrategias que aprenderemos en este curs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n 3" descr=""/>
          <p:cNvPicPr/>
          <p:nvPr/>
        </p:nvPicPr>
        <p:blipFill>
          <a:blip r:embed="rId2"/>
          <a:stretch/>
        </p:blipFill>
        <p:spPr>
          <a:xfrm>
            <a:off x="4006800" y="336600"/>
            <a:ext cx="4991040" cy="38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reli</cp:lastModifiedBy>
  <dcterms:modified xsi:type="dcterms:W3CDTF">2015-09-17T23:13:55Z</dcterms:modified>
  <cp:revision>655</cp:revision>
  <dc:subject/>
  <dc:title>Diapositiva 1</dc:title>
</cp:coreProperties>
</file>