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846-A978-4871-9C71-8B9E26B7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35F-EF80-4D77-859A-2070152E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EC0-6EEF-4071-AEF1-99140BAC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7BA-EA2B-4FC9-B1B3-BDCB04DF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BD1-9B73-4B0F-B171-C72E705F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F40-BA34-424F-9C78-2EDBE12E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B63-93B5-4D60-A8FF-96F232FE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AA9-72D3-49AF-8D11-21C48596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47A-BE34-4EFC-A08C-9F8BC3DB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90E-CB50-4122-BA5D-7386751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0EE-52AC-42F5-98F5-A1D322BC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75F-D5AA-4D7D-A465-93A344FE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2C50-3BE1-4DA0-A6AA-A4AC9E4204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360" y="112536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Universidad Autónoma de Tlaxcala</a:t>
            </a:r>
            <a:br>
              <a:rPr sz="32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Facultad de Ciencias de la Educación</a:t>
            </a:r>
            <a:br>
              <a:rPr sz="2400"/>
            </a:b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Lic. Ciencias de la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4" descr=""/>
          <p:cNvPicPr/>
          <p:nvPr/>
        </p:nvPicPr>
        <p:blipFill>
          <a:blip r:embed="rId1"/>
          <a:stretch/>
        </p:blipFill>
        <p:spPr>
          <a:xfrm>
            <a:off x="6516720" y="3008160"/>
            <a:ext cx="2482920" cy="3849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50"/>
          <p:cNvSpPr/>
          <p:nvPr/>
        </p:nvSpPr>
        <p:spPr>
          <a:xfrm>
            <a:off x="2268360" y="400536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Prime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l inicio de este curso, mis expectativas sobre la unidad de aprendizaje fueron amplias; me alegra bastante haberlas superado al darme cuenta de que se puede cambiar la metodología de enseñanza-aprendizaje al buscar diversas opciones didácticas haciendo uso de las TIC’s a fin de despertar el interés en los estudi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n 1" descr=""/>
          <p:cNvPicPr/>
          <p:nvPr/>
        </p:nvPicPr>
        <p:blipFill>
          <a:blip r:embed="rId2"/>
          <a:stretch/>
        </p:blipFill>
        <p:spPr>
          <a:xfrm>
            <a:off x="4067280" y="338040"/>
            <a:ext cx="4870440" cy="3934080"/>
          </a:xfrm>
          <a:prstGeom prst="rect">
            <a:avLst/>
          </a:prstGeom>
          <a:ln w="0">
            <a:noFill/>
          </a:ln>
        </p:spPr>
      </p:pic>
      <p:sp>
        <p:nvSpPr>
          <p:cNvPr id="47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futur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1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22320" y="28335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cieg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 de integr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mosc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adroTexto 2"/>
          <p:cNvSpPr/>
          <p:nvPr/>
        </p:nvSpPr>
        <p:spPr>
          <a:xfrm flipH="1" flipV="1" rot="10800000">
            <a:off x="4066200" y="4921200"/>
            <a:ext cx="48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istoria de la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tecedente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5" descr=""/>
          <p:cNvPicPr/>
          <p:nvPr/>
        </p:nvPicPr>
        <p:blipFill>
          <a:blip r:embed="rId2"/>
          <a:stretch/>
        </p:blipFill>
        <p:spPr>
          <a:xfrm>
            <a:off x="4070520" y="620640"/>
            <a:ext cx="4500360" cy="3672000"/>
          </a:xfrm>
          <a:prstGeom prst="rect">
            <a:avLst/>
          </a:prstGeom>
          <a:ln cap="sq" w="127080">
            <a:solidFill>
              <a:srgbClr val="66ff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2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Mis zapato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2"/>
          <p:cNvSpPr/>
          <p:nvPr/>
        </p:nvSpPr>
        <p:spPr>
          <a:xfrm flipH="1" flipV="1" rot="10800000">
            <a:off x="3419640" y="4921200"/>
            <a:ext cx="551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incipios y tendencia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cia una definición de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1" descr=""/>
          <p:cNvPicPr/>
          <p:nvPr/>
        </p:nvPicPr>
        <p:blipFill>
          <a:blip r:embed="rId2"/>
          <a:stretch/>
        </p:blipFill>
        <p:spPr>
          <a:xfrm>
            <a:off x="3591000" y="404640"/>
            <a:ext cx="5013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3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vasija agrietad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Fotonove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4" descr=""/>
          <p:cNvPicPr/>
          <p:nvPr/>
        </p:nvPicPr>
        <p:blipFill>
          <a:blip r:embed="rId2"/>
          <a:stretch/>
        </p:blipFill>
        <p:spPr>
          <a:xfrm>
            <a:off x="3533760" y="620640"/>
            <a:ext cx="511344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CuadroTexto 5"/>
          <p:cNvSpPr/>
          <p:nvPr/>
        </p:nvSpPr>
        <p:spPr>
          <a:xfrm>
            <a:off x="3533760" y="486900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onentes y características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4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maestro y el escorpión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echa Ku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3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572292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CuadroTexto 5"/>
          <p:cNvSpPr/>
          <p:nvPr/>
        </p:nvSpPr>
        <p:spPr>
          <a:xfrm flipH="1" flipV="1" rot="10800000">
            <a:off x="3379680" y="5244840"/>
            <a:ext cx="55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delos de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 visto durante este primer parcial, nos ayudará bastante a lo largo de nuestra futura carrera como docentes, las nuevas estrategias y la motivación y el apoyo que hemos tenido por parte del profesor nos sirven para ser mejores personas y buenos profesores en un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momento determinad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3" descr=""/>
          <p:cNvPicPr/>
          <p:nvPr/>
        </p:nvPicPr>
        <p:blipFill>
          <a:blip r:embed="rId2"/>
          <a:stretch/>
        </p:blipFill>
        <p:spPr>
          <a:xfrm>
            <a:off x="4006800" y="336600"/>
            <a:ext cx="4991040" cy="381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reli</cp:lastModifiedBy>
  <dcterms:modified xsi:type="dcterms:W3CDTF">2015-09-17T23:13:55Z</dcterms:modified>
  <cp:revision>655</cp:revision>
  <dc:subject/>
  <dc:title>Diapositiva 1</dc:title>
</cp:coreProperties>
</file>