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55E0-503B-447E-8A00-18C1F661A4A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18F-E649-4BDA-B5E4-28E409946D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8B9-58CA-42F8-9049-EFE11DD8F4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D92E-1666-4283-BF80-42E568EB70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24C-F7AF-4164-9FF4-4C7F79EAAB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D0B-939F-47D8-84F8-D9A6D72544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29D0-F2FA-4AF1-AD51-5CFB991B4A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701-C446-47B0-91DC-1987866314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3516-1759-4CF2-97E0-C99A8EB170C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9FE4-FDEE-45B4-BE49-6C601704F1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D5F-08DE-4672-B565-5328D8B2EFA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28A4-93E2-4471-9C40-195513745C3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8AC-CF24-4D05-9395-77016CD871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F32-8FF8-4120-BD7B-1405E42161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D849-E3B2-482F-8096-69BCF51FE7B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FCDA-F627-4FFF-AC49-B582D6B0EF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737-8237-43F7-A971-5688D0E3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5E9-3403-41EF-B7F7-06D619E0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50E-465F-433F-B625-2D0C784B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303-A9CB-4726-A218-6A6576DC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7F7-9220-40F6-BAFC-1A5EAFF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E5A-6426-4903-8486-9D0B59E8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5C1-7704-49C6-BFF0-B35571E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713-2C07-4B24-9B48-CF298B9B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768-8A09-4F40-8968-FBD0D03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E35-0B1D-41C6-8C60-3E1C905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5C5-0AE3-48E3-BA60-C7FE56C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2A7-49C1-40D4-AD1B-AAD59E3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A01-5180-4CC6-8FF8-DE0E96F858F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edro Valois\Mis documentos\Mis imágenes\cicep\Imagen1.jpg"/>
          <p:cNvPicPr/>
          <p:nvPr/>
        </p:nvPicPr>
        <p:blipFill>
          <a:blip r:embed="rId1"/>
          <a:stretch/>
        </p:blipFill>
        <p:spPr>
          <a:xfrm>
            <a:off x="2131920" y="1557360"/>
            <a:ext cx="405288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Hacia un lenguaje común en la Educación Básica de Tlaxc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Curso a Supervis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Febrero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82480" y="476280"/>
            <a:ext cx="7661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TIPOS DE SITUACIONES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situaciones-problemas de exploración (o situaciones didácticas) sitúan a los alumnos en situación de investig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actividades de formalización o de estructuración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ermiten desarrollar, formalizar y estructurar los nuevos saberes, sirven como prácticas para la adquisición de los saber-hacer. No son situaciones-problemas, pues  no hay un obstáculo para resolver, pero sí  aprendizaje constru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s situaciones-problemas de integración,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o de movilización, o de transferencia de saberes son nuevas situaciones-problemas planteadas especialmente para que los alumnos aprendan a movilizar los recursos pertinentes (saberes y saber-hacer) en función de un análisis correcto de la sit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TIPOS DE  ACTIVIDADES/TARE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- DE RECONOCIMIENTO-REPET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- DE IDENTIFICACIÓN –REP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I- DE 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</a:rPr>
              <a:t>Ejercicios, actividades y t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785880"/>
            <a:ext cx="8001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Ejercicios: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acciones o conjunto de acciones orientados a la comprobación del dominio adquirido en el manejo de determinado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Actividade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adquisición de un conocimiento nuevo o la utilización de algún conocimiento en forma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 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Tareas de desempeñ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resolución de una situación-problema dentro de un contexto definido ,mediante la combinación de todos los saberes o recursos  disponibles que permitirán la elaboración de un producto relev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MX" sz="2000" spc="-1" strike="noStrike">
                <a:solidFill>
                  <a:srgbClr val="c00000"/>
                </a:solidFill>
                <a:latin typeface="Arial Narrow"/>
                <a:ea typeface="Aharoni"/>
              </a:rPr>
              <a:t>TODAS SON ACTIVIDADES, PERO LA TAREA – PROBLEMA, TAREA DE DESEMEPEÑO O SITUACIÓN DIDÁCTICA ES UN TIPO DE ACTIVIDAD ESPE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haron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ACTIVIDADES COMO RECURSOS PARA APR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. Las actividades de exploración(buscan la comprensión ini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Las actividades de aprendizaje siste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articula varios aprendizajes para resolver problemas complej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Las actividades de estructuración(van cubriendo finalidades diferentes según la fase de la secuencia didáct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Las actividades de integración(moviliza recursos y los integra a un desempeñ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Las actividades de evaluación(igual ala anterior, pero con finalidad evalua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Que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n las cuales  se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trabajan los contenidos de forma integrada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y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actividades como recurso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n estructurarse atendiendo a u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PERTUR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ESARROLLO Y CIERRE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 través de las cuales el alumn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DQUIERE RECURSOS, LOS MOVILIZA Y SE DESEMPEÑA;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sin perder de vista la importancia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tegrar competencias para la vida y competencias específicas con énfasis en el aprender a aprender (desde las competencias básicas)  y el aprender a conviv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95280" y="692280"/>
            <a:ext cx="3889440" cy="56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5280" y="2349360"/>
            <a:ext cx="3384720" cy="2478960"/>
          </a:xfrm>
          <a:prstGeom prst="rect">
            <a:avLst/>
          </a:prstGeom>
          <a:solidFill>
            <a:srgbClr val="ffddb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Tres procesos de concreción en el nivel de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(Desarrollo Pedagógico del Do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282920" y="476280"/>
            <a:ext cx="4176720" cy="1368360"/>
            <a:chOff x="4282920" y="476280"/>
            <a:chExt cx="4176720" cy="1368360"/>
          </a:xfrm>
        </p:grpSpPr>
        <p:sp>
          <p:nvSpPr>
            <p:cNvPr id="88" name="Oval 5"/>
            <p:cNvSpPr/>
            <p:nvPr/>
          </p:nvSpPr>
          <p:spPr>
            <a:xfrm>
              <a:off x="4282920" y="476280"/>
              <a:ext cx="4176720" cy="1368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4570560" y="620640"/>
              <a:ext cx="38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se planifica en  el enfoque basado en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4500720" y="2708280"/>
            <a:ext cx="4174920" cy="1079640"/>
            <a:chOff x="4500720" y="2708280"/>
            <a:chExt cx="4174920" cy="1079640"/>
          </a:xfrm>
        </p:grpSpPr>
        <p:sp>
          <p:nvSpPr>
            <p:cNvPr id="91" name="Oval 8"/>
            <p:cNvSpPr/>
            <p:nvPr/>
          </p:nvSpPr>
          <p:spPr>
            <a:xfrm>
              <a:off x="4500720" y="2708280"/>
              <a:ext cx="4174920" cy="107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5148360" y="285264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 desarrollar secuencias didáct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500720" y="4724280"/>
            <a:ext cx="4103640" cy="1225800"/>
            <a:chOff x="4500720" y="4724280"/>
            <a:chExt cx="4103640" cy="1225800"/>
          </a:xfrm>
        </p:grpSpPr>
        <p:sp>
          <p:nvSpPr>
            <p:cNvPr id="94" name="Oval 11"/>
            <p:cNvSpPr/>
            <p:nvPr/>
          </p:nvSpPr>
          <p:spPr>
            <a:xfrm>
              <a:off x="4500720" y="4724280"/>
              <a:ext cx="4103640" cy="122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006880" y="4724280"/>
              <a:ext cx="338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evaluar en el enfoque  por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 de texto 2"/>
          <p:cNvSpPr/>
          <p:nvPr/>
        </p:nvSpPr>
        <p:spPr>
          <a:xfrm>
            <a:off x="1332000" y="0"/>
            <a:ext cx="6780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0504d"/>
                </a:solidFill>
                <a:latin typeface="Arial Narrow"/>
              </a:rPr>
              <a:t>¡JAMÁS LA YEDRA Y LA PARED PUDIERON SEPARARSE JAMÁS! LA EVALUCIÓN DENRO DE LA 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 de texto 3"/>
          <p:cNvSpPr/>
          <p:nvPr/>
        </p:nvSpPr>
        <p:spPr>
          <a:xfrm>
            <a:off x="1387440" y="907920"/>
            <a:ext cx="311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1</a:t>
            </a:r>
            <a:r>
              <a:rPr b="1" lang="es-ES" sz="1800" spc="-1" strike="noStrike">
                <a:solidFill>
                  <a:srgbClr val="800080"/>
                </a:solidFill>
                <a:latin typeface="Arial Black"/>
              </a:rPr>
              <a:t> Competencia Específica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4"/>
          <p:cNvSpPr/>
          <p:nvPr/>
        </p:nvSpPr>
        <p:spPr>
          <a:xfrm>
            <a:off x="4788000" y="836640"/>
            <a:ext cx="3097080" cy="576360"/>
          </a:xfrm>
          <a:custGeom>
            <a:avLst/>
            <a:gdLst>
              <a:gd name="textAreaLeft" fmla="*/ 483840 w 3097080"/>
              <a:gd name="textAreaRight" fmla="*/ 2710080 w 3097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e 5"/>
          <p:cNvSpPr/>
          <p:nvPr/>
        </p:nvSpPr>
        <p:spPr>
          <a:xfrm>
            <a:off x="250920" y="1773360"/>
            <a:ext cx="107928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66"/>
                </a:solidFill>
                <a:latin typeface="Arial Narrow"/>
              </a:rPr>
              <a:t>CONT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e 6"/>
          <p:cNvSpPr/>
          <p:nvPr/>
        </p:nvSpPr>
        <p:spPr>
          <a:xfrm>
            <a:off x="1476360" y="1916280"/>
            <a:ext cx="1440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987640" y="1989000"/>
            <a:ext cx="1008000" cy="107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 Narrow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ipse 8"/>
          <p:cNvSpPr/>
          <p:nvPr/>
        </p:nvSpPr>
        <p:spPr>
          <a:xfrm>
            <a:off x="4859280" y="1773360"/>
            <a:ext cx="936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Criterios 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ipse 9"/>
          <p:cNvSpPr/>
          <p:nvPr/>
        </p:nvSpPr>
        <p:spPr>
          <a:xfrm>
            <a:off x="7812000" y="1557360"/>
            <a:ext cx="1332000" cy="1150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Tarea  o sit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de desempeñ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10"/>
          <p:cNvSpPr/>
          <p:nvPr/>
        </p:nvSpPr>
        <p:spPr>
          <a:xfrm>
            <a:off x="611280" y="1484280"/>
            <a:ext cx="712944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ínea 11"/>
          <p:cNvSpPr/>
          <p:nvPr/>
        </p:nvSpPr>
        <p:spPr>
          <a:xfrm>
            <a:off x="7740720" y="1484280"/>
            <a:ext cx="0" cy="3168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12"/>
          <p:cNvSpPr/>
          <p:nvPr/>
        </p:nvSpPr>
        <p:spPr>
          <a:xfrm>
            <a:off x="8388360" y="2708280"/>
            <a:ext cx="0" cy="3025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ínea 13"/>
          <p:cNvSpPr/>
          <p:nvPr/>
        </p:nvSpPr>
        <p:spPr>
          <a:xfrm flipH="1">
            <a:off x="658764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ínea 14"/>
          <p:cNvSpPr/>
          <p:nvPr/>
        </p:nvSpPr>
        <p:spPr>
          <a:xfrm flipH="1">
            <a:off x="478800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ínea 15"/>
          <p:cNvSpPr/>
          <p:nvPr/>
        </p:nvSpPr>
        <p:spPr>
          <a:xfrm flipH="1">
            <a:off x="298728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ínea 16"/>
          <p:cNvSpPr/>
          <p:nvPr/>
        </p:nvSpPr>
        <p:spPr>
          <a:xfrm flipH="1">
            <a:off x="125892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ínea 17"/>
          <p:cNvSpPr/>
          <p:nvPr/>
        </p:nvSpPr>
        <p:spPr>
          <a:xfrm flipH="1">
            <a:off x="610920" y="5734080"/>
            <a:ext cx="431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ínea 18"/>
          <p:cNvSpPr/>
          <p:nvPr/>
        </p:nvSpPr>
        <p:spPr>
          <a:xfrm flipV="1">
            <a:off x="611280" y="2923920"/>
            <a:ext cx="0" cy="2808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adro de texto 19"/>
          <p:cNvSpPr/>
          <p:nvPr/>
        </p:nvSpPr>
        <p:spPr>
          <a:xfrm>
            <a:off x="971280" y="412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0</a:t>
            </a:r>
            <a:r>
              <a:rPr b="1" lang="es-ES" sz="1800" spc="-1" strike="noStrike">
                <a:solidFill>
                  <a:srgbClr val="800000"/>
                </a:solidFill>
                <a:latin typeface="Calibri"/>
              </a:rPr>
              <a:t> COMPETENCIAS 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forma 20"/>
          <p:cNvSpPr/>
          <p:nvPr/>
        </p:nvSpPr>
        <p:spPr>
          <a:xfrm>
            <a:off x="250920" y="549360"/>
            <a:ext cx="503280" cy="792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22040 h 792000"/>
              <a:gd name="textAreaBottom" fmla="*/ 590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ínea 21"/>
          <p:cNvSpPr/>
          <p:nvPr/>
        </p:nvSpPr>
        <p:spPr>
          <a:xfrm>
            <a:off x="5292720" y="2852640"/>
            <a:ext cx="0" cy="2160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ínea 22"/>
          <p:cNvSpPr/>
          <p:nvPr/>
        </p:nvSpPr>
        <p:spPr>
          <a:xfrm flipH="1">
            <a:off x="4642920" y="5013360"/>
            <a:ext cx="129564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23"/>
          <p:cNvSpPr/>
          <p:nvPr/>
        </p:nvSpPr>
        <p:spPr>
          <a:xfrm>
            <a:off x="6733080" y="479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 Narrow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24"/>
          <p:cNvSpPr/>
          <p:nvPr/>
        </p:nvSpPr>
        <p:spPr>
          <a:xfrm>
            <a:off x="2000160" y="4786200"/>
            <a:ext cx="37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alibri"/>
              </a:rPr>
              <a:t>ENSEÑANZA-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adro de texto 25"/>
          <p:cNvSpPr/>
          <p:nvPr/>
        </p:nvSpPr>
        <p:spPr>
          <a:xfrm>
            <a:off x="8237160" y="93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26"/>
          <p:cNvSpPr/>
          <p:nvPr/>
        </p:nvSpPr>
        <p:spPr>
          <a:xfrm>
            <a:off x="7055280" y="148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29"/>
          <p:cNvSpPr/>
          <p:nvPr/>
        </p:nvSpPr>
        <p:spPr>
          <a:xfrm>
            <a:off x="5102640" y="1484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30"/>
          <p:cNvSpPr/>
          <p:nvPr/>
        </p:nvSpPr>
        <p:spPr>
          <a:xfrm>
            <a:off x="7161120" y="3933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Calibri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31"/>
          <p:cNvSpPr/>
          <p:nvPr/>
        </p:nvSpPr>
        <p:spPr>
          <a:xfrm>
            <a:off x="3492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alibri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33"/>
          <p:cNvSpPr/>
          <p:nvPr/>
        </p:nvSpPr>
        <p:spPr>
          <a:xfrm>
            <a:off x="69732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8"/>
          <p:cNvSpPr/>
          <p:nvPr/>
        </p:nvSpPr>
        <p:spPr>
          <a:xfrm>
            <a:off x="5796000" y="1844640"/>
            <a:ext cx="93672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e 8"/>
          <p:cNvSpPr/>
          <p:nvPr/>
        </p:nvSpPr>
        <p:spPr>
          <a:xfrm>
            <a:off x="6732720" y="1844640"/>
            <a:ext cx="93636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evid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5 CuadroTexto"/>
          <p:cNvSpPr/>
          <p:nvPr/>
        </p:nvSpPr>
        <p:spPr>
          <a:xfrm>
            <a:off x="6104520" y="1484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6 CuadroTexto"/>
          <p:cNvSpPr/>
          <p:nvPr/>
        </p:nvSpPr>
        <p:spPr>
          <a:xfrm>
            <a:off x="213696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7 CuadroTexto"/>
          <p:cNvSpPr/>
          <p:nvPr/>
        </p:nvSpPr>
        <p:spPr>
          <a:xfrm>
            <a:off x="3348000" y="1557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Esencia  de las competencias para la v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24000" y="1142640"/>
            <a:ext cx="6562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1)Aprender a apren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2) Manejar inform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3)Manejar situ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4)Conviv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5)Vida en socie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lipse 2"/>
          <p:cNvSpPr/>
          <p:nvPr/>
        </p:nvSpPr>
        <p:spPr>
          <a:xfrm>
            <a:off x="1908000" y="692280"/>
            <a:ext cx="5400720" cy="237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y organiza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 y dominar procesos y 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ipse 3"/>
          <p:cNvSpPr/>
          <p:nvPr/>
        </p:nvSpPr>
        <p:spPr>
          <a:xfrm>
            <a:off x="1619280" y="2347920"/>
            <a:ext cx="4681440" cy="24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frentar situaciones cada vez más compl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movilizando saberes y otr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ipse 4"/>
          <p:cNvSpPr/>
          <p:nvPr/>
        </p:nvSpPr>
        <p:spPr>
          <a:xfrm>
            <a:off x="1908000" y="4005360"/>
            <a:ext cx="3600720" cy="20160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Uso significativo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 situaciones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ínea 5"/>
          <p:cNvSpPr/>
          <p:nvPr/>
        </p:nvSpPr>
        <p:spPr>
          <a:xfrm>
            <a:off x="2556000" y="270828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ínea 6"/>
          <p:cNvSpPr/>
          <p:nvPr/>
        </p:nvSpPr>
        <p:spPr>
          <a:xfrm flipV="1">
            <a:off x="421164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adro de texto 7"/>
          <p:cNvSpPr/>
          <p:nvPr/>
        </p:nvSpPr>
        <p:spPr>
          <a:xfrm>
            <a:off x="3285360" y="24922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0253f"/>
                </a:solidFill>
                <a:latin typeface="Arial Narrow"/>
              </a:rPr>
              <a:t>Evaluación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8"/>
          <p:cNvSpPr/>
          <p:nvPr/>
        </p:nvSpPr>
        <p:spPr>
          <a:xfrm>
            <a:off x="2268360" y="4292640"/>
            <a:ext cx="1582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ínea 9"/>
          <p:cNvSpPr/>
          <p:nvPr/>
        </p:nvSpPr>
        <p:spPr>
          <a:xfrm flipV="1">
            <a:off x="3851280" y="4581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10"/>
          <p:cNvSpPr/>
          <p:nvPr/>
        </p:nvSpPr>
        <p:spPr>
          <a:xfrm>
            <a:off x="3003840" y="4221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 Narrow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ipse 11"/>
          <p:cNvSpPr/>
          <p:nvPr/>
        </p:nvSpPr>
        <p:spPr>
          <a:xfrm>
            <a:off x="7072200" y="0"/>
            <a:ext cx="2071800" cy="180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Situación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area-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ínea 12"/>
          <p:cNvSpPr/>
          <p:nvPr/>
        </p:nvSpPr>
        <p:spPr>
          <a:xfrm>
            <a:off x="684360" y="692280"/>
            <a:ext cx="66974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ínea 13"/>
          <p:cNvSpPr/>
          <p:nvPr/>
        </p:nvSpPr>
        <p:spPr>
          <a:xfrm>
            <a:off x="7380360" y="692280"/>
            <a:ext cx="0" cy="4537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14"/>
          <p:cNvSpPr/>
          <p:nvPr/>
        </p:nvSpPr>
        <p:spPr>
          <a:xfrm>
            <a:off x="1203480" y="216000"/>
            <a:ext cx="26726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0000"/>
                </a:solidFill>
                <a:latin typeface="Arial Black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15"/>
          <p:cNvSpPr/>
          <p:nvPr/>
        </p:nvSpPr>
        <p:spPr>
          <a:xfrm>
            <a:off x="380160" y="17002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6"/>
          <p:cNvSpPr/>
          <p:nvPr/>
        </p:nvSpPr>
        <p:spPr>
          <a:xfrm>
            <a:off x="313920" y="33512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17"/>
          <p:cNvSpPr/>
          <p:nvPr/>
        </p:nvSpPr>
        <p:spPr>
          <a:xfrm>
            <a:off x="663480" y="494172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al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esentación y organización de la se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sarrollo de la guía de trabajo en equi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Orientación para la próxima sesión de trab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9" descr="750px-Russian-Matroshka_no_bg.jpg"/>
          <p:cNvPicPr/>
          <p:nvPr/>
        </p:nvPicPr>
        <p:blipFill>
          <a:blip r:embed="rId1"/>
          <a:stretch/>
        </p:blipFill>
        <p:spPr>
          <a:xfrm>
            <a:off x="684360" y="4221000"/>
            <a:ext cx="32954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7"/>
          <p:cNvGrpSpPr/>
          <p:nvPr/>
        </p:nvGrpSpPr>
        <p:grpSpPr>
          <a:xfrm>
            <a:off x="611280" y="2565360"/>
            <a:ext cx="3313080" cy="914400"/>
            <a:chOff x="611280" y="2565360"/>
            <a:chExt cx="3313080" cy="914400"/>
          </a:xfrm>
        </p:grpSpPr>
        <p:sp>
          <p:nvSpPr>
            <p:cNvPr id="150" name="9 Rectángulo"/>
            <p:cNvSpPr/>
            <p:nvPr/>
          </p:nvSpPr>
          <p:spPr>
            <a:xfrm>
              <a:off x="611280" y="2565360"/>
              <a:ext cx="3313080" cy="914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3 Rectángulo"/>
            <p:cNvSpPr/>
            <p:nvPr/>
          </p:nvSpPr>
          <p:spPr>
            <a:xfrm>
              <a:off x="709560" y="2565360"/>
              <a:ext cx="914400" cy="91440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1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 Rectángulo"/>
            <p:cNvSpPr/>
            <p:nvPr/>
          </p:nvSpPr>
          <p:spPr>
            <a:xfrm>
              <a:off x="287496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3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 Rectángulo"/>
            <p:cNvSpPr/>
            <p:nvPr/>
          </p:nvSpPr>
          <p:spPr>
            <a:xfrm>
              <a:off x="180972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2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10 Rectángulo"/>
          <p:cNvSpPr/>
          <p:nvPr/>
        </p:nvSpPr>
        <p:spPr>
          <a:xfrm>
            <a:off x="4211640" y="2565360"/>
            <a:ext cx="338472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437832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543564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5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8 Rectángulo"/>
          <p:cNvSpPr/>
          <p:nvPr/>
        </p:nvSpPr>
        <p:spPr>
          <a:xfrm>
            <a:off x="7761240" y="256536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7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2 Flecha a la derecha con bandas"/>
          <p:cNvSpPr/>
          <p:nvPr/>
        </p:nvSpPr>
        <p:spPr>
          <a:xfrm>
            <a:off x="2268360" y="3716280"/>
            <a:ext cx="1656000" cy="649440"/>
          </a:xfrm>
          <a:custGeom>
            <a:avLst/>
            <a:gdLst/>
            <a:ahLst/>
            <a:rect l="l" t="t" r="r" b="b"/>
            <a:pathLst>
              <a:path w="1655762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1331119" y="162322"/>
                </a:lnTo>
                <a:lnTo>
                  <a:pt x="1331119" y="0"/>
                </a:lnTo>
                <a:lnTo>
                  <a:pt x="1655762" y="324644"/>
                </a:lnTo>
                <a:lnTo>
                  <a:pt x="1331119" y="649287"/>
                </a:lnTo>
                <a:lnTo>
                  <a:pt x="1331119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3 CuadroTexto"/>
          <p:cNvSpPr/>
          <p:nvPr/>
        </p:nvSpPr>
        <p:spPr>
          <a:xfrm>
            <a:off x="678600" y="38606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Flecha a la derecha con bandas"/>
          <p:cNvSpPr/>
          <p:nvPr/>
        </p:nvSpPr>
        <p:spPr>
          <a:xfrm>
            <a:off x="5940360" y="3716280"/>
            <a:ext cx="792360" cy="649440"/>
          </a:xfrm>
          <a:custGeom>
            <a:avLst/>
            <a:gdLst/>
            <a:ahLst/>
            <a:rect l="l" t="t" r="r" b="b"/>
            <a:pathLst>
              <a:path w="792163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467520" y="162322"/>
                </a:lnTo>
                <a:lnTo>
                  <a:pt x="467520" y="0"/>
                </a:lnTo>
                <a:lnTo>
                  <a:pt x="792163" y="324644"/>
                </a:lnTo>
                <a:lnTo>
                  <a:pt x="467520" y="649287"/>
                </a:lnTo>
                <a:lnTo>
                  <a:pt x="467520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4214160" y="3860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CuadroTexto"/>
          <p:cNvSpPr/>
          <p:nvPr/>
        </p:nvSpPr>
        <p:spPr>
          <a:xfrm>
            <a:off x="7632720" y="3860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Flecha a la derecha con bandas"/>
          <p:cNvSpPr/>
          <p:nvPr/>
        </p:nvSpPr>
        <p:spPr>
          <a:xfrm>
            <a:off x="611280" y="1413000"/>
            <a:ext cx="8064360" cy="720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NSTRUYE 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Flecha a la derecha con bandas"/>
          <p:cNvSpPr/>
          <p:nvPr/>
        </p:nvSpPr>
        <p:spPr>
          <a:xfrm>
            <a:off x="4284720" y="4581360"/>
            <a:ext cx="4390920" cy="1511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TRUYE 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6120" y="456840"/>
            <a:ext cx="8051760" cy="52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SECUENCIA DIDÁCTICA DISTRIBUIDA EN EL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Rectángulo"/>
          <p:cNvSpPr/>
          <p:nvPr/>
        </p:nvSpPr>
        <p:spPr>
          <a:xfrm>
            <a:off x="655020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6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s-MX" sz="2900" spc="-1" strike="noStrike">
                <a:solidFill>
                  <a:srgbClr val="000000"/>
                </a:solidFill>
                <a:latin typeface="Arial Rounded MT Bold"/>
              </a:rPr>
              <a:t>PASOS DE LA SECUENCIA DIDÁCTICA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TIVAR LOS SABERES PREVIOS (DIAGNÓST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ISPONER EL APRENDIZAJE (Hacer pública la COMPETENCIA, la TAREA, los CRITERIOS e INSTRUMENTOS para la evaluación</a:t>
            </a:r>
            <a:r>
              <a:rPr b="1" lang="es-MX" sz="20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TRODUCIR LOS NUEVOS SABERES (logrando un uso activo de los mismos en situaciones contextualizad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OMPAÑAR A LOS ESTUDIANTES A ENFRENTAR UN DESEMPEÑO CADA VEZ MÁS COMPLEJO HASTA LOGRAR AUTONOMÍA EN LA MOVILIZACIÓN DE LOS RECURSOS NECESARIOS Y EN LA TRANFERENCIA PARA RESOLVER CON ÉXITO  LAS TARE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NFRENTAR LA TAREA INTEGRADORA O DESEMP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ORIENTAR PARA LA TRANSFERENCIA MÁS ALLÁ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2 Conector recto"/>
          <p:cNvSpPr/>
          <p:nvPr/>
        </p:nvSpPr>
        <p:spPr>
          <a:xfrm flipV="1">
            <a:off x="1187280" y="1341000"/>
            <a:ext cx="5977080" cy="71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4 Conector recto de flecha"/>
          <p:cNvCxnSpPr/>
          <p:nvPr/>
        </p:nvCxnSpPr>
        <p:spPr>
          <a:xfrm flipH="1">
            <a:off x="7164000" y="1341360"/>
            <a:ext cx="2160" cy="4392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1" name="5 Elipse"/>
          <p:cNvSpPr/>
          <p:nvPr/>
        </p:nvSpPr>
        <p:spPr>
          <a:xfrm>
            <a:off x="7236000" y="500040"/>
            <a:ext cx="1908000" cy="1851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TEGRADORA O SITUACIÓN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826920" y="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 COMPETENCIAS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 COMPETENCIA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2987640" y="1844640"/>
            <a:ext cx="2160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ADQUIRI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Elipse"/>
          <p:cNvSpPr/>
          <p:nvPr/>
        </p:nvSpPr>
        <p:spPr>
          <a:xfrm>
            <a:off x="2916360" y="3357720"/>
            <a:ext cx="230328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MOVILIZA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Elipse"/>
          <p:cNvSpPr/>
          <p:nvPr/>
        </p:nvSpPr>
        <p:spPr>
          <a:xfrm>
            <a:off x="2700360" y="4797360"/>
            <a:ext cx="2519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TAREA INTEGRADORA  DE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3051360" y="1484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 Rounded MT Bold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12 Conector recto de flecha"/>
          <p:cNvCxnSpPr>
            <a:stCxn id="171" idx="3"/>
          </p:cNvCxnSpPr>
          <p:nvPr/>
        </p:nvCxnSpPr>
        <p:spPr>
          <a:xfrm flipH="1">
            <a:off x="5198760" y="2079360"/>
            <a:ext cx="2316960" cy="3245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13 Abrir llave"/>
          <p:cNvSpPr/>
          <p:nvPr/>
        </p:nvSpPr>
        <p:spPr>
          <a:xfrm>
            <a:off x="2340000" y="1989000"/>
            <a:ext cx="360360" cy="273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735280"/>
              <a:gd name="textAreaBottom" fmla="*/ 27259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4 CuadroTexto"/>
          <p:cNvSpPr/>
          <p:nvPr/>
        </p:nvSpPr>
        <p:spPr>
          <a:xfrm>
            <a:off x="256320" y="1916280"/>
            <a:ext cx="23094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MEM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DES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INALIDAD DE  LOS OBJETIVOS OBJETIVOS DE APRENDIZA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2383920"/>
            <a:ext cx="3314880" cy="39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ransmitir  el saber acumulado culturalmente por la sociedad  y cuidar bien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52040" y="2386440"/>
            <a:ext cx="4255560" cy="39258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Objetivo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Arial Narrow"/>
              </a:rPr>
              <a:t>1)Adquisición de conocimientos desde los diferentes campos form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2)Desarrollo de h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3)Desarrollo de actit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Arial Narrow"/>
              </a:rPr>
              <a:t>4)Capacidad de aplicar esos recursos de forma  integrada y adecuada  en el contexto de  las  situaciones  didácticas  novedosas cada vez más complejas, en diferentes contex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Qu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al evaluar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parta d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previamente establecido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uales guíen la enseñanza y abarque tanto aprendizajes de diversos tipos así como desempeño de tareas y desempeños contextuales;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que apunten hacia el desarrollo de competencias bás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lenguaje escritura y habilidades matemáticas) teniendo en cuenta que dichos criterios se especifican a través de indicadores y niveles de logro, relacionados a su vez con la búsqueda de evidencias a través de diferente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 Narrow"/>
              </a:rPr>
              <a:t>Esas tres dimensiones de los objetivos formativos derivan en tres dimensiones  para evaluar competencias , porque  constituyen estándares para el desempeñ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conoce el alum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sabe hacer con lo que cono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nivel  de logro alcanza al enfrentar la tarea, problema, actividad o situación concreta, desde  un saber ser y esta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¿Qué se evalú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)¿Cómo construye un bagaje compet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)¿Cómo  ejecuta  por rutas alternativas  hasta arribar a un desempeño reflexi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cada vez más complejas,  desde una actuación compete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EL CONCEPTO DE COMPETENCIA  Y LA RESPUESTA A ¿QUÉ SE EVALÚ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)¿Cómo adquiere  los recursos?(conocimientos, habilidades, actitudes, informaciones, sabere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)¿Cómo moviliza los recursos para enfrentar situaciones complejas y novedos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 evidenciando el desarrollo de competencias personales para actuar, desempeñándose en context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res Vías Didác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ara la Compr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Resolución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Elipse"/>
          <p:cNvSpPr/>
          <p:nvPr/>
        </p:nvSpPr>
        <p:spPr>
          <a:xfrm>
            <a:off x="285840" y="285840"/>
            <a:ext cx="2916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SPERADOS O RESULTADOS 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Elipse"/>
          <p:cNvSpPr/>
          <p:nvPr/>
        </p:nvSpPr>
        <p:spPr>
          <a:xfrm>
            <a:off x="6215040" y="0"/>
            <a:ext cx="2664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6 Rectángulo"/>
          <p:cNvSpPr/>
          <p:nvPr/>
        </p:nvSpPr>
        <p:spPr>
          <a:xfrm>
            <a:off x="2544840" y="3141720"/>
            <a:ext cx="23619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 Rectángulo"/>
          <p:cNvSpPr/>
          <p:nvPr/>
        </p:nvSpPr>
        <p:spPr>
          <a:xfrm>
            <a:off x="5219640" y="3141720"/>
            <a:ext cx="14479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VELES DE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Rectángulo"/>
          <p:cNvSpPr/>
          <p:nvPr/>
        </p:nvSpPr>
        <p:spPr>
          <a:xfrm>
            <a:off x="7164360" y="3141720"/>
            <a:ext cx="14461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INSTR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Rectángulo"/>
          <p:cNvSpPr/>
          <p:nvPr/>
        </p:nvSpPr>
        <p:spPr>
          <a:xfrm>
            <a:off x="3471840" y="4376880"/>
            <a:ext cx="24717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VI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0 Rectángulo"/>
          <p:cNvSpPr/>
          <p:nvPr/>
        </p:nvSpPr>
        <p:spPr>
          <a:xfrm>
            <a:off x="3279600" y="2079720"/>
            <a:ext cx="311652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Black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2 Rectángulo"/>
          <p:cNvSpPr/>
          <p:nvPr/>
        </p:nvSpPr>
        <p:spPr>
          <a:xfrm>
            <a:off x="2630520" y="5732640"/>
            <a:ext cx="4865760" cy="9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EMITIR JUICIOS RETROALIME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14 Conector recto de flecha"/>
          <p:cNvCxnSpPr>
            <a:stCxn id="194" idx="4"/>
            <a:endCxn id="200" idx="1"/>
          </p:cNvCxnSpPr>
          <p:nvPr/>
        </p:nvCxnSpPr>
        <p:spPr>
          <a:xfrm>
            <a:off x="1743120" y="1615680"/>
            <a:ext cx="1537200" cy="700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3" name="16 Conector recto de flecha"/>
          <p:cNvCxnSpPr>
            <a:stCxn id="195" idx="4"/>
            <a:endCxn id="200" idx="3"/>
          </p:cNvCxnSpPr>
          <p:nvPr/>
        </p:nvCxnSpPr>
        <p:spPr>
          <a:xfrm flipH="1">
            <a:off x="6395400" y="1329840"/>
            <a:ext cx="1151640" cy="986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4" name="18 Conector recto de flecha"/>
          <p:cNvCxnSpPr>
            <a:stCxn id="200" idx="2"/>
            <a:endCxn id="196" idx="0"/>
          </p:cNvCxnSpPr>
          <p:nvPr/>
        </p:nvCxnSpPr>
        <p:spPr>
          <a:xfrm flipH="1">
            <a:off x="3725640" y="2554200"/>
            <a:ext cx="1111680" cy="588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20 Conector recto de flecha"/>
          <p:cNvCxnSpPr>
            <a:stCxn id="196" idx="3"/>
            <a:endCxn id="197" idx="1"/>
          </p:cNvCxnSpPr>
          <p:nvPr/>
        </p:nvCxnSpPr>
        <p:spPr>
          <a:xfrm>
            <a:off x="4906440" y="3485880"/>
            <a:ext cx="3135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6" name="24 Conector recto de flecha"/>
          <p:cNvCxnSpPr>
            <a:stCxn id="197" idx="3"/>
            <a:endCxn id="198" idx="1"/>
          </p:cNvCxnSpPr>
          <p:nvPr/>
        </p:nvCxnSpPr>
        <p:spPr>
          <a:xfrm>
            <a:off x="6667560" y="3485880"/>
            <a:ext cx="4975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7" name="26 Conector recto de flecha"/>
          <p:cNvCxnSpPr>
            <a:stCxn id="196" idx="2"/>
            <a:endCxn id="199" idx="0"/>
          </p:cNvCxnSpPr>
          <p:nvPr/>
        </p:nvCxnSpPr>
        <p:spPr>
          <a:xfrm>
            <a:off x="3725640" y="3831840"/>
            <a:ext cx="981720" cy="545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8" name="30 Conector recto de flecha"/>
          <p:cNvCxnSpPr>
            <a:endCxn id="198" idx="2"/>
          </p:cNvCxnSpPr>
          <p:nvPr/>
        </p:nvCxnSpPr>
        <p:spPr>
          <a:xfrm flipV="1">
            <a:off x="7887960" y="3831840"/>
            <a:ext cx="1080" cy="891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9" name="11 Conector recto de flecha"/>
          <p:cNvCxnSpPr/>
          <p:nvPr/>
        </p:nvCxnSpPr>
        <p:spPr>
          <a:xfrm flipH="1">
            <a:off x="5943240" y="4722480"/>
            <a:ext cx="19454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0" name="13 Cerrar llave"/>
          <p:cNvSpPr/>
          <p:nvPr/>
        </p:nvSpPr>
        <p:spPr>
          <a:xfrm rot="5400000">
            <a:off x="4358520" y="1481040"/>
            <a:ext cx="1151280" cy="7351560"/>
          </a:xfrm>
          <a:custGeom>
            <a:avLst/>
            <a:gdLst>
              <a:gd name="textAreaLeft" fmla="*/ 0 w 1151280"/>
              <a:gd name="textAreaRight" fmla="*/ 415800 w 1151280"/>
              <a:gd name="textAreaTop" fmla="*/ 29880 h 7351560"/>
              <a:gd name="textAreaBottom" fmla="*/ 7321680 h 735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Elipse"/>
          <p:cNvSpPr/>
          <p:nvPr/>
        </p:nvSpPr>
        <p:spPr>
          <a:xfrm>
            <a:off x="3429000" y="285840"/>
            <a:ext cx="264312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 Narrow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5 Conector recto"/>
          <p:cNvSpPr/>
          <p:nvPr/>
        </p:nvSpPr>
        <p:spPr>
          <a:xfrm flipV="1">
            <a:off x="3201840" y="742680"/>
            <a:ext cx="227160" cy="20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1 Conector recto"/>
          <p:cNvSpPr/>
          <p:nvPr/>
        </p:nvSpPr>
        <p:spPr>
          <a:xfrm flipV="1">
            <a:off x="6072120" y="665280"/>
            <a:ext cx="142920" cy="7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10526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1. Que los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aprendizajes esperados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on el referente del cual parte el maestro para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planificar y evaluar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, teniendo en cuenta que un aprendizaje esperado enuncia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qué se aprende y cómo el alumno demuestra lo que aprende evidenciando los niveles de competencia alcanza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285560"/>
            <a:ext cx="61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ERTIN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JERARQUIZ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INDEPEN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O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CARACTERÍSTICAS DE LOS CRITERIOS DE EVALU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Que el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trabajo colegiado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constituye  clave de éxito, tanto para enriquecer el consejo técnico como para optimizar recursos en función de la calidad del aprendizaje, para lo cual las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5 “C’s”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ueden constituir una herramienta valios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Trabajo Colegiado (las 5 “C”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junción de enfoques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(cómo se puede favorecer el enfoque globalizador, interdisciplinario y competencia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tinuidad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profundizar en objetivos comunes de cada etapa y delimitar líneas de continuid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mponente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stacar los aprendizajes esperados y los restantes componentes didáctic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senso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consensuar estrategias y técnicas metodológicas que pueden ser comune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finir criterios e indicadores de logro con vista a tener referentes comunes y evitar dispersión o reduplicació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71720" y="0"/>
          <a:ext cx="8072280" cy="6858000"/>
        </p:xfrm>
        <a:graphic>
          <a:graphicData uri="http://schemas.openxmlformats.org/drawingml/2006/table">
            <a:tbl>
              <a:tblPr/>
              <a:tblGrid>
                <a:gridCol w="2498400"/>
                <a:gridCol w="5573880"/>
              </a:tblGrid>
              <a:tr h="415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iveles de logro de los propósitos fundament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, promedio) de las competencias en cuest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or debajo de lo 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escaso, poco evidente,  superficial, irregular,  insuficiente ) de las competencias 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907920"/>
          <a:ext cx="8229600" cy="58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to (necesita  dire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 a alguien cumpliendo una tar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 sobre un tema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ortamiento es determinado por regl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poca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tad para relacionar la práctica a la teor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mpleta la tarea satisfactoriam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iante  (necesita apoy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eva experiencia práctica a las situ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más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algunas habilidades analíticas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las tareas satisfactoriamente pero requiere supervisión y asistencia en estab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te (busca consej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a la tarea satisfactoriamente sin superv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 conocimientos  práct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analítico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eza a ver acciones en término de la situación global o de metas a largo plaz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priorizar y establecer una perspectiva de la situ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competente  (es independie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muy analítico en la resolución de problemas y es capaz de priorizar en una variedad de situaciones, temas y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puede relacionar con la situación 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un trabajo de alta calidad de manera muy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ibe el significado de una situación en términos de metas a largo plazo o repercus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integrar exitosamente habilidades, conocimientos y comportamientos en la mayorí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 desarrollando una comprensión intuitiv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24" name="2 CuadroTexto"/>
          <p:cNvSpPr/>
          <p:nvPr/>
        </p:nvSpPr>
        <p:spPr>
          <a:xfrm>
            <a:off x="3490920" y="3049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Niveles de Lo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428760"/>
          <a:ext cx="8229600" cy="62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 usado es consistentemente  claro y preciso y el vocabulario utilizado demuestra  gran variedad.  Las convenciones han sido respetadas a cabalidad  en todo momento .El registro es el apropiado  a la tarea y el discurso  ha sido organizado  conforme a la idea  central que se desea expre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7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 claro y preciso en general  y el vocabulario utilizado es variado .Las convenciones han sido respetas en la mayoría de los casos, por lo que no hay errores significativos de gramática ,ortografía y construcción de frases. El registro es apropiado ala tarea  y el discurso ha sido eficazmente  organizado para apreciar la idea  central que se desea comun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claro .las convenciones no han sido siempre respetadas ,por lo que puede haber algunos errores de gramática, ortografía y construcción de frases .las ideas no han sido organizadas adecuadamente , aunque se puede apreciar la idea prin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4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ere Reforz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expresado no es claramente comprensible y frecuentemente el vocabulario es impreciso  o inadecuado .hay muchos errores  de gramática y ortografía  y construcción de frases .la falta de organización d elas ideas no permite  visualizar la idea princip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26" name="5 CuadroTexto"/>
          <p:cNvSpPr/>
          <p:nvPr/>
        </p:nvSpPr>
        <p:spPr>
          <a:xfrm>
            <a:off x="58320" y="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riterio: Muestra claridad de expresión ya sea en contextos orales o esc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upo 2"/>
          <p:cNvGrpSpPr/>
          <p:nvPr/>
        </p:nvGrpSpPr>
        <p:grpSpPr>
          <a:xfrm>
            <a:off x="214200" y="857160"/>
            <a:ext cx="8734320" cy="5819400"/>
            <a:chOff x="214200" y="857160"/>
            <a:chExt cx="8734320" cy="5819400"/>
          </a:xfrm>
        </p:grpSpPr>
        <p:sp>
          <p:nvSpPr>
            <p:cNvPr id="228" name="Rectángulo 3"/>
            <p:cNvSpPr/>
            <p:nvPr/>
          </p:nvSpPr>
          <p:spPr>
            <a:xfrm>
              <a:off x="214200" y="857160"/>
              <a:ext cx="7814880" cy="10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JES DE ORGANIZACIÓN DE LA PROGRA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 LA ENSEÑA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ángulo 4"/>
            <p:cNvSpPr/>
            <p:nvPr/>
          </p:nvSpPr>
          <p:spPr>
            <a:xfrm>
              <a:off x="415440" y="3172320"/>
              <a:ext cx="2204640" cy="20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CONTE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l sab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ángulo 5"/>
            <p:cNvSpPr/>
            <p:nvPr/>
          </p:nvSpPr>
          <p:spPr>
            <a:xfrm>
              <a:off x="3120840" y="3172320"/>
              <a:ext cx="2504520" cy="192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SPEC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 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saber hac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ángulo 6"/>
            <p:cNvSpPr/>
            <p:nvPr/>
          </p:nvSpPr>
          <p:spPr>
            <a:xfrm>
              <a:off x="6326640" y="3267360"/>
              <a:ext cx="2405160" cy="18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Aprendizajes esperados o resultados de aprendiz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ángulo 7"/>
            <p:cNvSpPr/>
            <p:nvPr/>
          </p:nvSpPr>
          <p:spPr>
            <a:xfrm>
              <a:off x="6143760" y="6001200"/>
              <a:ext cx="2804760" cy="67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ínea 8"/>
            <p:cNvSpPr/>
            <p:nvPr/>
          </p:nvSpPr>
          <p:spPr>
            <a:xfrm flipH="1">
              <a:off x="1136520" y="1922400"/>
              <a:ext cx="270396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ínea 9"/>
            <p:cNvSpPr/>
            <p:nvPr/>
          </p:nvSpPr>
          <p:spPr>
            <a:xfrm>
              <a:off x="4322880" y="191844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ínea 10"/>
            <p:cNvSpPr/>
            <p:nvPr/>
          </p:nvSpPr>
          <p:spPr>
            <a:xfrm>
              <a:off x="4623120" y="1918440"/>
              <a:ext cx="2804760" cy="13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ínea 11"/>
            <p:cNvSpPr/>
            <p:nvPr/>
          </p:nvSpPr>
          <p:spPr>
            <a:xfrm>
              <a:off x="7527600" y="5100480"/>
              <a:ext cx="0" cy="8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Cuadro de texto 12"/>
          <p:cNvSpPr/>
          <p:nvPr/>
        </p:nvSpPr>
        <p:spPr>
          <a:xfrm>
            <a:off x="2631240" y="2142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CAMBIO DE EJE EN LA 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Rectángulo"/>
          <p:cNvSpPr/>
          <p:nvPr/>
        </p:nvSpPr>
        <p:spPr>
          <a:xfrm>
            <a:off x="1908000" y="0"/>
            <a:ext cx="5112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Proceso 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4 Rectángulo"/>
          <p:cNvSpPr/>
          <p:nvPr/>
        </p:nvSpPr>
        <p:spPr>
          <a:xfrm>
            <a:off x="468360" y="1413000"/>
            <a:ext cx="1871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2627280" y="1413000"/>
            <a:ext cx="2376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6300720" y="1341360"/>
            <a:ext cx="208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Pr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627280" y="3500280"/>
            <a:ext cx="25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5651640" y="3429000"/>
            <a:ext cx="1368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gra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7164360" y="3429000"/>
            <a:ext cx="1584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3 Rectángulo"/>
          <p:cNvSpPr/>
          <p:nvPr/>
        </p:nvSpPr>
        <p:spPr>
          <a:xfrm flipH="1" flipV="1">
            <a:off x="6156360" y="6857280"/>
            <a:ext cx="264312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5 Rectángulo"/>
          <p:cNvSpPr/>
          <p:nvPr/>
        </p:nvSpPr>
        <p:spPr>
          <a:xfrm flipH="1" flipV="1" rot="10800000">
            <a:off x="322920" y="5731560"/>
            <a:ext cx="71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6 Rectángulo"/>
          <p:cNvSpPr/>
          <p:nvPr/>
        </p:nvSpPr>
        <p:spPr>
          <a:xfrm>
            <a:off x="755640" y="4437000"/>
            <a:ext cx="91440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rfil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7 Rectángulo"/>
          <p:cNvSpPr/>
          <p:nvPr/>
        </p:nvSpPr>
        <p:spPr>
          <a:xfrm flipH="1" flipV="1" rot="10800000">
            <a:off x="6083640" y="2564280"/>
            <a:ext cx="264348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GESTIÓN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8 Rectángulo"/>
          <p:cNvSpPr/>
          <p:nvPr/>
        </p:nvSpPr>
        <p:spPr>
          <a:xfrm flipH="1" flipV="1" rot="10800000">
            <a:off x="2699280" y="2564280"/>
            <a:ext cx="23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TAPA DE DESARRO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URR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9 Rectángulo"/>
          <p:cNvSpPr/>
          <p:nvPr/>
        </p:nvSpPr>
        <p:spPr>
          <a:xfrm>
            <a:off x="1258920" y="5661000"/>
            <a:ext cx="6462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0 Rectángulo"/>
          <p:cNvSpPr/>
          <p:nvPr/>
        </p:nvSpPr>
        <p:spPr>
          <a:xfrm flipH="1" flipV="1" rot="10800000">
            <a:off x="322920" y="2637000"/>
            <a:ext cx="2160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4 Rectángulo"/>
          <p:cNvSpPr/>
          <p:nvPr/>
        </p:nvSpPr>
        <p:spPr>
          <a:xfrm>
            <a:off x="269892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320364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6 Rectángulo"/>
          <p:cNvSpPr/>
          <p:nvPr/>
        </p:nvSpPr>
        <p:spPr>
          <a:xfrm>
            <a:off x="370692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7 Rectángulo"/>
          <p:cNvSpPr/>
          <p:nvPr/>
        </p:nvSpPr>
        <p:spPr>
          <a:xfrm>
            <a:off x="421164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8 Rectángulo"/>
          <p:cNvSpPr/>
          <p:nvPr/>
        </p:nvSpPr>
        <p:spPr>
          <a:xfrm>
            <a:off x="4714920" y="5589720"/>
            <a:ext cx="4334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9 Rectángulo"/>
          <p:cNvSpPr/>
          <p:nvPr/>
        </p:nvSpPr>
        <p:spPr>
          <a:xfrm>
            <a:off x="6696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0 Rectángulo"/>
          <p:cNvSpPr/>
          <p:nvPr/>
        </p:nvSpPr>
        <p:spPr>
          <a:xfrm>
            <a:off x="7199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1 Rectángulo"/>
          <p:cNvSpPr/>
          <p:nvPr/>
        </p:nvSpPr>
        <p:spPr>
          <a:xfrm>
            <a:off x="7704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2 Rectángulo"/>
          <p:cNvSpPr/>
          <p:nvPr/>
        </p:nvSpPr>
        <p:spPr>
          <a:xfrm>
            <a:off x="8207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3 Rectángulo"/>
          <p:cNvSpPr/>
          <p:nvPr/>
        </p:nvSpPr>
        <p:spPr>
          <a:xfrm>
            <a:off x="8712360" y="4724280"/>
            <a:ext cx="43164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37 Conector recto de flecha"/>
          <p:cNvCxnSpPr>
            <a:stCxn id="239" idx="2"/>
            <a:endCxn id="251" idx="1"/>
          </p:cNvCxnSpPr>
          <p:nvPr/>
        </p:nvCxnSpPr>
        <p:spPr>
          <a:xfrm flipH="1">
            <a:off x="1402560" y="2327400"/>
            <a:ext cx="2520" cy="31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3" name="39 Conector recto de flecha"/>
          <p:cNvCxnSpPr>
            <a:stCxn id="251" idx="3"/>
            <a:endCxn id="264" idx="0"/>
          </p:cNvCxnSpPr>
          <p:nvPr/>
        </p:nvCxnSpPr>
        <p:spPr>
          <a:xfrm flipH="1">
            <a:off x="1223280" y="3141720"/>
            <a:ext cx="181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5" name="41 Conector recto de flecha"/>
          <p:cNvCxnSpPr>
            <a:stCxn id="247" idx="2"/>
            <a:endCxn id="246" idx="1"/>
          </p:cNvCxnSpPr>
          <p:nvPr/>
        </p:nvCxnSpPr>
        <p:spPr>
          <a:xfrm flipH="1">
            <a:off x="681840" y="5371920"/>
            <a:ext cx="531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6" name="43 Conector recto de flecha"/>
          <p:cNvCxnSpPr>
            <a:stCxn id="247" idx="2"/>
            <a:endCxn id="250" idx="0"/>
          </p:cNvCxnSpPr>
          <p:nvPr/>
        </p:nvCxnSpPr>
        <p:spPr>
          <a:xfrm>
            <a:off x="1211760" y="5372280"/>
            <a:ext cx="3704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7" name="45 Conector recto de flecha"/>
          <p:cNvCxnSpPr>
            <a:stCxn id="240" idx="2"/>
            <a:endCxn id="249" idx="1"/>
          </p:cNvCxnSpPr>
          <p:nvPr/>
        </p:nvCxnSpPr>
        <p:spPr>
          <a:xfrm>
            <a:off x="3816360" y="2327040"/>
            <a:ext cx="72000" cy="23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8" name="47 Conector recto de flecha"/>
          <p:cNvCxnSpPr>
            <a:stCxn id="249" idx="3"/>
            <a:endCxn id="242" idx="0"/>
          </p:cNvCxnSpPr>
          <p:nvPr/>
        </p:nvCxnSpPr>
        <p:spPr>
          <a:xfrm>
            <a:off x="3887640" y="3141720"/>
            <a:ext cx="3744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9" name="49 Conector recto de flecha"/>
          <p:cNvCxnSpPr>
            <a:endCxn id="252" idx="0"/>
          </p:cNvCxnSpPr>
          <p:nvPr/>
        </p:nvCxnSpPr>
        <p:spPr>
          <a:xfrm flipH="1">
            <a:off x="2913840" y="4941720"/>
            <a:ext cx="1081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0" name="51 Conector recto de flecha"/>
          <p:cNvCxnSpPr>
            <a:endCxn id="253" idx="0"/>
          </p:cNvCxnSpPr>
          <p:nvPr/>
        </p:nvCxnSpPr>
        <p:spPr>
          <a:xfrm flipH="1">
            <a:off x="3419640" y="4941720"/>
            <a:ext cx="576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1" name="53 Conector recto de flecha"/>
          <p:cNvCxnSpPr>
            <a:endCxn id="254" idx="0"/>
          </p:cNvCxnSpPr>
          <p:nvPr/>
        </p:nvCxnSpPr>
        <p:spPr>
          <a:xfrm flipH="1">
            <a:off x="3921840" y="494172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2" name="55 Conector recto de flecha"/>
          <p:cNvCxnSpPr>
            <a:endCxn id="255" idx="0"/>
          </p:cNvCxnSpPr>
          <p:nvPr/>
        </p:nvCxnSpPr>
        <p:spPr>
          <a:xfrm>
            <a:off x="3995640" y="4941720"/>
            <a:ext cx="43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3" name="57 Conector recto de flecha"/>
          <p:cNvCxnSpPr>
            <a:endCxn id="256" idx="0"/>
          </p:cNvCxnSpPr>
          <p:nvPr/>
        </p:nvCxnSpPr>
        <p:spPr>
          <a:xfrm>
            <a:off x="3995640" y="494172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4" name="59 Conector recto de flecha"/>
          <p:cNvCxnSpPr>
            <a:stCxn id="241" idx="2"/>
            <a:endCxn id="248" idx="1"/>
          </p:cNvCxnSpPr>
          <p:nvPr/>
        </p:nvCxnSpPr>
        <p:spPr>
          <a:xfrm>
            <a:off x="7343640" y="2255760"/>
            <a:ext cx="62640" cy="3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5" name="61 Conector recto de flecha"/>
          <p:cNvCxnSpPr>
            <a:stCxn id="248" idx="3"/>
            <a:endCxn id="243" idx="0"/>
          </p:cNvCxnSpPr>
          <p:nvPr/>
        </p:nvCxnSpPr>
        <p:spPr>
          <a:xfrm flipH="1">
            <a:off x="6335280" y="3048120"/>
            <a:ext cx="1070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6" name="63 Conector recto de flecha"/>
          <p:cNvCxnSpPr>
            <a:stCxn id="248" idx="3"/>
          </p:cNvCxnSpPr>
          <p:nvPr/>
        </p:nvCxnSpPr>
        <p:spPr>
          <a:xfrm>
            <a:off x="7405560" y="3048120"/>
            <a:ext cx="6962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7" name="65 Conector recto de flecha"/>
          <p:cNvCxnSpPr>
            <a:stCxn id="244" idx="2"/>
            <a:endCxn id="257" idx="0"/>
          </p:cNvCxnSpPr>
          <p:nvPr/>
        </p:nvCxnSpPr>
        <p:spPr>
          <a:xfrm flipH="1">
            <a:off x="6911640" y="4221000"/>
            <a:ext cx="1045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8" name="67 Conector recto de flecha"/>
          <p:cNvCxnSpPr>
            <a:stCxn id="244" idx="2"/>
            <a:endCxn id="258" idx="0"/>
          </p:cNvCxnSpPr>
          <p:nvPr/>
        </p:nvCxnSpPr>
        <p:spPr>
          <a:xfrm flipH="1">
            <a:off x="7414920" y="4221000"/>
            <a:ext cx="5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9" name="69 Conector recto de flecha"/>
          <p:cNvCxnSpPr>
            <a:stCxn id="244" idx="2"/>
            <a:endCxn id="259" idx="0"/>
          </p:cNvCxnSpPr>
          <p:nvPr/>
        </p:nvCxnSpPr>
        <p:spPr>
          <a:xfrm flipH="1">
            <a:off x="7919640" y="422100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71 Conector recto de flecha"/>
          <p:cNvCxnSpPr>
            <a:stCxn id="244" idx="2"/>
            <a:endCxn id="260" idx="0"/>
          </p:cNvCxnSpPr>
          <p:nvPr/>
        </p:nvCxnSpPr>
        <p:spPr>
          <a:xfrm>
            <a:off x="7956720" y="4221000"/>
            <a:ext cx="4672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1" name="73 Conector recto de flecha"/>
          <p:cNvCxnSpPr>
            <a:stCxn id="244" idx="2"/>
            <a:endCxn id="261" idx="0"/>
          </p:cNvCxnSpPr>
          <p:nvPr/>
        </p:nvCxnSpPr>
        <p:spPr>
          <a:xfrm>
            <a:off x="7956720" y="4221000"/>
            <a:ext cx="972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2" name="44 Rectángulo"/>
          <p:cNvSpPr/>
          <p:nvPr/>
        </p:nvSpPr>
        <p:spPr>
          <a:xfrm>
            <a:off x="3276720" y="4365720"/>
            <a:ext cx="15620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gramas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60 Rectángulo"/>
          <p:cNvSpPr/>
          <p:nvPr/>
        </p:nvSpPr>
        <p:spPr>
          <a:xfrm>
            <a:off x="468360" y="3500280"/>
            <a:ext cx="151128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El concepto de evaluación  basada en competencias y aspectos claves del acuerdo 6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e el docente planifique actividades para que los alumnos estudien y apren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os alumnos se den cuenta de lo que han aprendido y lo que están por apren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tomen en cuenta los procesos de aprendizaje, no sólo los resultad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consideren las necesidades específicas de los alumnos y de los contextos en los que se desarrolla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a información sobre el desempeño de los alumnos se obtenga de distintas fuentes, no sólo de las prueb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APRENDIZAJES ESPERADOS O RESULTADOS DE APRENDIZ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enunciados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claros acerca de </a:t>
            </a:r>
            <a:r>
              <a:rPr b="1" i="1" lang="es-MX" sz="2700" spc="-1" strike="noStrike">
                <a:solidFill>
                  <a:srgbClr val="ff0000"/>
                </a:solidFill>
                <a:latin typeface="Calibri"/>
              </a:rPr>
              <a:t>lo que se espera que aprenda el estudiante y cómo va a demostrar este logro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De esta manera, los resultados de aprendizaje son más precisos, más fáciles de redactar y mucho más claros que los  tradicionales objetivos. Los resultados de aprendizaje se pueden considerar desde una perspectiva como una especie de “moneda universal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drawingml/2006/table">
            <a:tbl>
              <a:tblPr/>
              <a:tblGrid>
                <a:gridCol w="2411280"/>
                <a:gridCol w="6732720"/>
              </a:tblGrid>
              <a:tr h="809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Niveles de logro de los propósitos fundam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 promedio) de las competencias en cuestió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POR DEBAJ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DE LO 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escaso, poco evidente,  superficial, irregular,  insuficiente )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de las competencias 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alibri"/>
              </a:rPr>
              <a:t>ASPECTOS  PARA UNA  EMISIÓN DE JUICIOS RETROALIMENT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Comentar logros (fortalez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Determinar lo que todavía requiere mejorar (debil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oveer ideas concretas y herramientas  de cómo mejorarlo (oportun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7440" y="8568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97280" y="1697040"/>
            <a:ext cx="3790440" cy="2326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a)Conocimientos, experiencias , saber…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b)   Contenidos procedimen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c)Actitu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d)Capacidad para dar respuesta a 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ituaciones  problemas o cuestiones que tienen muchas probabilidades de  encontrar en la realidad, es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ecir, </a:t>
            </a:r>
            <a:r>
              <a:rPr b="1" lang="es-MX" sz="1600" spc="-1" strike="noStrike">
                <a:solidFill>
                  <a:srgbClr val="c00000"/>
                </a:solidFill>
                <a:latin typeface="Arial Narrow"/>
                <a:ea typeface="Arial"/>
              </a:rPr>
              <a:t>capacidad de  movilizar y combinar recursos ante situaciones  complejas en contextos determinados, es decir,  enfrentar desempeñ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Rectángulo redondeado"/>
          <p:cNvSpPr/>
          <p:nvPr/>
        </p:nvSpPr>
        <p:spPr>
          <a:xfrm>
            <a:off x="468360" y="1500120"/>
            <a:ext cx="4032360" cy="228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1f497d"/>
                </a:solidFill>
                <a:latin typeface="Calibri"/>
              </a:rPr>
              <a:t>Conocimientos, habilidades y actitudes como resultado del dominio de aprendiz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Rectángulo"/>
          <p:cNvSpPr/>
          <p:nvPr/>
        </p:nvSpPr>
        <p:spPr>
          <a:xfrm>
            <a:off x="4716360" y="4724280"/>
            <a:ext cx="3959280" cy="5050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4788000" y="5732640"/>
            <a:ext cx="3960720" cy="5047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ESTANDARES CURR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Flecha abajo"/>
          <p:cNvSpPr/>
          <p:nvPr/>
        </p:nvSpPr>
        <p:spPr>
          <a:xfrm>
            <a:off x="5940360" y="422100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2 Flecha abajo"/>
          <p:cNvSpPr/>
          <p:nvPr/>
        </p:nvSpPr>
        <p:spPr>
          <a:xfrm>
            <a:off x="6084720" y="522936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 BERKLEY"/>
              </a:rPr>
              <a:t>Dos orientaciones diferentes para diseñar el aprendizaje y evaluar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alibri"/>
              </a:rPr>
              <a:t>Competencias en la Educación Bási</a:t>
            </a: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341000"/>
            <a:ext cx="4042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etencias en el contexto de la Educación Superior  y en el mundo del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9440" y="2367360"/>
            <a:ext cx="3655080" cy="356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potenciar aprendizaj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hacia el desarrollo de compe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sde la articulación de recursos y compete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37320" y="2367360"/>
            <a:ext cx="3656520" cy="356616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 un entrenamiento en competencia con vista a mejores desempe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 competencias y para el desarrollo de competencias</a:t>
            </a: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0" y="189000"/>
          <a:ext cx="9144000" cy="68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8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COMPETENCIA  CONCEBIDA COMO CAPACIDAD 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 de movilizar diversos tipos de recursos adquiridos (conocimientos, habilidades, actitudes, saberes, esquemas…) para hacer frente a  situaciones cada vez  más complejas en  un contexto determin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Que al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planificar con vista a potenciar aprendizajes orientados al desarrollo de competencia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e ha de tener presente el papel relevante que ocupa el diseño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de situaciones problema, situaciones desafiantes, situaciones didácticas, tareas de desempeño, tarea integradora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s cuales servirán de dispositivo para guiar lo que se ha de aprender y como escenario de lo que se va a avalu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1:46:37Z</dcterms:created>
  <dc:creator>Pedro Valois</dc:creator>
  <dc:description/>
  <dc:language>en-US</dc:language>
  <cp:lastModifiedBy>KAROLINA</cp:lastModifiedBy>
  <dcterms:modified xsi:type="dcterms:W3CDTF">2015-11-03T18:34:09Z</dcterms:modified>
  <cp:revision>35</cp:revision>
  <dc:subject/>
  <dc:title>Presentación de PowerPoint</dc:title>
</cp:coreProperties>
</file>