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45A0-FE3E-4B0A-A82A-D27102F40C8B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CADF-A4C6-4338-B51B-C3E5E30D0E0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437E-D0D9-49AA-8A83-B28C268FD71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B84D-A44E-439E-9062-46CA43DBA5A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AF9B-FDA2-493F-8476-155AF0170F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3E23-B58A-4ECA-B880-32D2750F287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E621-C087-4E11-B307-95D3DFBAB0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FE75-079B-42CB-B0DE-FAD3F424294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4502-205C-4B3E-BC7C-8919B120EDB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7076-E97F-4E90-BA0B-51DAE607D9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15AB-AE17-4612-AAE1-2F32DA5364D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4E30-4404-46F3-A4EC-3DA0C2C1495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EDE2-DC6B-43DE-B605-F80161736CB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90B2-1E8D-434F-9182-6DC453258AD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A8B4-0B25-45EB-8AF7-B9B3F0BF85C4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5F3B-5243-43ED-A142-3C87E9FF170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1C12-4B56-4BF0-BEF9-88AD58BA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E96-82D6-4589-AF41-FA5D83BE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DD6-CB7F-4984-8F3C-FA2A4C10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C3B7-609F-4781-9360-8695272F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66C-82C9-4501-908F-8DFB9D63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8C9-FD8E-4ADA-B506-6C350B7E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66DB-2A5A-4D49-91BC-90031E6B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39E7-DE72-4D60-A044-177E1FF0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5B23-6785-4289-9764-87358A8F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771E-9D2C-46F1-AFD6-3BD7E706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BA40-ED33-4820-8C94-F9D9B360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EDA-B079-46DD-A87A-C8C907FB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6935-B666-4A24-B29E-623966C9ABE7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Pedro Valois\Mis documentos\Mis imágenes\cicep\Imagen1.jpg"/>
          <p:cNvPicPr/>
          <p:nvPr/>
        </p:nvPicPr>
        <p:blipFill>
          <a:blip r:embed="rId1"/>
          <a:stretch/>
        </p:blipFill>
        <p:spPr>
          <a:xfrm>
            <a:off x="2131920" y="1557360"/>
            <a:ext cx="405288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Hacia un lenguaje común en la Educación Básica de Tlaxc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6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f497d"/>
                </a:solidFill>
                <a:latin typeface="Arial Black"/>
              </a:rPr>
              <a:t>Curso a Supervis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f497d"/>
                </a:solidFill>
                <a:latin typeface="Arial Black"/>
              </a:rPr>
              <a:t>Febrero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82480" y="476280"/>
            <a:ext cx="766152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TIPOS DE SITUACIONES PROBLE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as situaciones-problemas de exploración (o situaciones didácticas) sitúan a los alumnos en situación de investig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as </a:t>
            </a:r>
            <a:r>
              <a:rPr b="0" i="1" lang="es-MX" sz="2400" spc="-1" strike="noStrike">
                <a:solidFill>
                  <a:srgbClr val="000000"/>
                </a:solidFill>
                <a:latin typeface="Calibri"/>
              </a:rPr>
              <a:t>actividades de formalización o de estructuración 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ermiten desarrollar, formalizar y estructurar los nuevos saberes, sirven como prácticas para la adquisición de los saber-hacer. No son situaciones-problemas, pues  no hay un obstáculo para resolver, pero sí  aprendizaje construc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0" i="1" lang="es-MX" sz="2400" spc="-1" strike="noStrike">
                <a:solidFill>
                  <a:srgbClr val="000000"/>
                </a:solidFill>
                <a:latin typeface="Calibri"/>
              </a:rPr>
              <a:t>s situaciones-problemas de integración, 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o de movilización, o de transferencia de saberes son nuevas situaciones-problemas planteadas especialmente para que los alumnos aprendan a movilizar los recursos pertinentes (saberes y saber-hacer) en función de un análisis correcto de la situació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Calibri"/>
              </a:rPr>
              <a:t>TIPOS DE  ACTIVIDADES/TARE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I- DE RECONOCIMIENTO-REPETI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II- DE IDENTIFICACIÓN –REPROD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III- DE CONSTR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 Narrow"/>
              </a:rPr>
              <a:t>Ejercicios, actividades y t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99680" y="785880"/>
            <a:ext cx="80010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Ejercicios: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 acciones o conjunto de acciones orientados a la comprobación del dominio adquirido en el manejo de determinado cono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Actividades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: Acciones o conjunto de acciones orientadas a la adquisición de un conocimiento nuevo o la utilización de algún conocimiento en forma difer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 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Tareas de desempeño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: acciones o conjunto de acciones orientadas a la resolución de una situación-problema dentro de un contexto definido ,mediante la combinación de todos los saberes o recursos  disponibles que permitirán la elaboración de un producto relev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s-MX" sz="2000" spc="-1" strike="noStrike">
                <a:solidFill>
                  <a:srgbClr val="c00000"/>
                </a:solidFill>
                <a:latin typeface="Arial Narrow"/>
                <a:ea typeface="Aharoni"/>
              </a:rPr>
              <a:t>TODAS SON ACTIVIDADES, PERO LA TAREA – PROBLEMA, TAREA DE DESEMEPEÑO O SITUACIÓN DIDÁCTICA ES UN TIPO DE ACTIVIDAD ESPE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  <a:ea typeface="Aharon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Calibri"/>
              </a:rPr>
              <a:t>ACTIVIDADES COMO RECURSOS PARA APR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. Las actividades de exploración(buscan la comprensión inici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2. Las actividades de aprendizaje sistemá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(articula varios aprendizajes para resolver problemas complej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3. Las actividades de estructuración(van cubriendo finalidades diferentes según la fase de la secuencia didácti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4. Las actividades de integración(moviliza recursos y los integra a un desempeñ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5. Las actividades de evaluación(igual ala anterior, pero con finalidad evaluativ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1128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3. Que las </a:t>
            </a:r>
            <a:r>
              <a:rPr b="1" lang="es-MX" sz="3200" spc="-1" strike="noStrike">
                <a:solidFill>
                  <a:srgbClr val="ff0000"/>
                </a:solidFill>
                <a:latin typeface="Calibri"/>
              </a:rPr>
              <a:t>secuencias didácticas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n las cuales  se </a:t>
            </a:r>
            <a:r>
              <a:rPr b="1" lang="es-MX" sz="3200" spc="-1" strike="noStrike">
                <a:solidFill>
                  <a:srgbClr val="ff0000"/>
                </a:solidFill>
                <a:latin typeface="Calibri"/>
              </a:rPr>
              <a:t>trabajan los contenidos de forma integrada </a:t>
            </a: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y las </a:t>
            </a:r>
            <a:r>
              <a:rPr b="1" lang="es-MX" sz="3200" spc="-1" strike="noStrike">
                <a:solidFill>
                  <a:srgbClr val="ff0000"/>
                </a:solidFill>
                <a:latin typeface="Calibri"/>
              </a:rPr>
              <a:t>actividades como recurso para aprender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deben estructurarse atendiendo a una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APERTURA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DESARROLLO Y CIERRE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a través de las cuales el alumno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ADQUIERE RECURSOS, LOS MOVILIZA Y SE DESEMPEÑA;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 sin perder de vista la importancia de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tegrar competencias para la vida y competencias específicas con énfasis en el aprender a aprender (desde las competencias básicas)  y el aprender a conviv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395280" y="692280"/>
            <a:ext cx="3889440" cy="561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dd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95280" y="2349360"/>
            <a:ext cx="3384720" cy="2478960"/>
          </a:xfrm>
          <a:prstGeom prst="rect">
            <a:avLst/>
          </a:prstGeom>
          <a:solidFill>
            <a:srgbClr val="ffddb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Tres procesos de concreción en el nivel de 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(Desarrollo Pedagógico del Doc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4"/>
          <p:cNvGrpSpPr/>
          <p:nvPr/>
        </p:nvGrpSpPr>
        <p:grpSpPr>
          <a:xfrm>
            <a:off x="4282920" y="476280"/>
            <a:ext cx="4176720" cy="1368360"/>
            <a:chOff x="4282920" y="476280"/>
            <a:chExt cx="4176720" cy="1368360"/>
          </a:xfrm>
        </p:grpSpPr>
        <p:sp>
          <p:nvSpPr>
            <p:cNvPr id="88" name="Oval 5"/>
            <p:cNvSpPr/>
            <p:nvPr/>
          </p:nvSpPr>
          <p:spPr>
            <a:xfrm>
              <a:off x="4282920" y="476280"/>
              <a:ext cx="4176720" cy="13683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6"/>
            <p:cNvSpPr/>
            <p:nvPr/>
          </p:nvSpPr>
          <p:spPr>
            <a:xfrm>
              <a:off x="4570560" y="620640"/>
              <a:ext cx="381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Cómo se planifica en  el enfoque basado en compet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7"/>
          <p:cNvGrpSpPr/>
          <p:nvPr/>
        </p:nvGrpSpPr>
        <p:grpSpPr>
          <a:xfrm>
            <a:off x="4500720" y="2708280"/>
            <a:ext cx="4174920" cy="1079640"/>
            <a:chOff x="4500720" y="2708280"/>
            <a:chExt cx="4174920" cy="1079640"/>
          </a:xfrm>
        </p:grpSpPr>
        <p:sp>
          <p:nvSpPr>
            <p:cNvPr id="91" name="Oval 8"/>
            <p:cNvSpPr/>
            <p:nvPr/>
          </p:nvSpPr>
          <p:spPr>
            <a:xfrm>
              <a:off x="4500720" y="2708280"/>
              <a:ext cx="4174920" cy="10796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5148360" y="2852640"/>
              <a:ext cx="309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Cómo  desarrollar secuencias didáctica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0"/>
          <p:cNvGrpSpPr/>
          <p:nvPr/>
        </p:nvGrpSpPr>
        <p:grpSpPr>
          <a:xfrm>
            <a:off x="4500720" y="4724280"/>
            <a:ext cx="4103640" cy="1225800"/>
            <a:chOff x="4500720" y="4724280"/>
            <a:chExt cx="4103640" cy="1225800"/>
          </a:xfrm>
        </p:grpSpPr>
        <p:sp>
          <p:nvSpPr>
            <p:cNvPr id="94" name="Oval 11"/>
            <p:cNvSpPr/>
            <p:nvPr/>
          </p:nvSpPr>
          <p:spPr>
            <a:xfrm>
              <a:off x="4500720" y="4724280"/>
              <a:ext cx="4103640" cy="1225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2"/>
            <p:cNvSpPr/>
            <p:nvPr/>
          </p:nvSpPr>
          <p:spPr>
            <a:xfrm>
              <a:off x="5006880" y="4724280"/>
              <a:ext cx="3382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Cómo evaluar en el enfoque  por compet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uadro de texto 2"/>
          <p:cNvSpPr/>
          <p:nvPr/>
        </p:nvSpPr>
        <p:spPr>
          <a:xfrm>
            <a:off x="1332000" y="0"/>
            <a:ext cx="67802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0504d"/>
                </a:solidFill>
                <a:latin typeface="Arial Narrow"/>
              </a:rPr>
              <a:t>¡JAMÁS LA YEDRA Y LA PARED PUDIERON SEPARARSE JAMÁS! LA EVALUCIÓN DENRO DE LA PLANE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uadro de texto 3"/>
          <p:cNvSpPr/>
          <p:nvPr/>
        </p:nvSpPr>
        <p:spPr>
          <a:xfrm>
            <a:off x="1387440" y="907920"/>
            <a:ext cx="3111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Black"/>
              </a:rPr>
              <a:t>1</a:t>
            </a:r>
            <a:r>
              <a:rPr b="1" lang="es-ES" sz="1800" spc="-1" strike="noStrike">
                <a:solidFill>
                  <a:srgbClr val="800080"/>
                </a:solidFill>
                <a:latin typeface="Arial Black"/>
              </a:rPr>
              <a:t> Competencia Específica</a:t>
            </a:r>
            <a:r>
              <a:rPr b="0" lang="es-ES" sz="18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forma 4"/>
          <p:cNvSpPr/>
          <p:nvPr/>
        </p:nvSpPr>
        <p:spPr>
          <a:xfrm>
            <a:off x="4788000" y="836640"/>
            <a:ext cx="3097080" cy="576360"/>
          </a:xfrm>
          <a:custGeom>
            <a:avLst/>
            <a:gdLst>
              <a:gd name="textAreaLeft" fmla="*/ 483840 w 3097080"/>
              <a:gd name="textAreaRight" fmla="*/ 2710080 w 30970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lipse 5"/>
          <p:cNvSpPr/>
          <p:nvPr/>
        </p:nvSpPr>
        <p:spPr>
          <a:xfrm>
            <a:off x="250920" y="1773360"/>
            <a:ext cx="107928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66"/>
                </a:solidFill>
                <a:latin typeface="Arial Narrow"/>
              </a:rPr>
              <a:t>CONTEN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ipse 6"/>
          <p:cNvSpPr/>
          <p:nvPr/>
        </p:nvSpPr>
        <p:spPr>
          <a:xfrm>
            <a:off x="1476360" y="1916280"/>
            <a:ext cx="1440000" cy="1368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</a:rPr>
              <a:t>S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</a:rPr>
              <a:t>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e 7"/>
          <p:cNvSpPr/>
          <p:nvPr/>
        </p:nvSpPr>
        <p:spPr>
          <a:xfrm>
            <a:off x="2987640" y="1989000"/>
            <a:ext cx="1008000" cy="1079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 Narrow"/>
              </a:rPr>
              <a:t>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lipse 8"/>
          <p:cNvSpPr/>
          <p:nvPr/>
        </p:nvSpPr>
        <p:spPr>
          <a:xfrm>
            <a:off x="4859280" y="1773360"/>
            <a:ext cx="936720" cy="1079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 Narrow"/>
              </a:rPr>
              <a:t>Criterios 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 Narrow"/>
              </a:rPr>
              <a:t>eval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ipse 9"/>
          <p:cNvSpPr/>
          <p:nvPr/>
        </p:nvSpPr>
        <p:spPr>
          <a:xfrm>
            <a:off x="7812000" y="1557360"/>
            <a:ext cx="1332000" cy="1150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ffff"/>
                </a:solidFill>
                <a:latin typeface="Arial Narrow"/>
              </a:rPr>
              <a:t>Tarea  o situ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" sz="1100" spc="-1" strike="noStrike">
                <a:solidFill>
                  <a:srgbClr val="ffffff"/>
                </a:solidFill>
                <a:latin typeface="Arial Narrow"/>
              </a:rPr>
              <a:t>de desempeñ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ínea 10"/>
          <p:cNvSpPr/>
          <p:nvPr/>
        </p:nvSpPr>
        <p:spPr>
          <a:xfrm>
            <a:off x="611280" y="1484280"/>
            <a:ext cx="7129440" cy="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ínea 11"/>
          <p:cNvSpPr/>
          <p:nvPr/>
        </p:nvSpPr>
        <p:spPr>
          <a:xfrm>
            <a:off x="7740720" y="1484280"/>
            <a:ext cx="0" cy="31687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ínea 12"/>
          <p:cNvSpPr/>
          <p:nvPr/>
        </p:nvSpPr>
        <p:spPr>
          <a:xfrm>
            <a:off x="8388360" y="2708280"/>
            <a:ext cx="0" cy="302580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ínea 13"/>
          <p:cNvSpPr/>
          <p:nvPr/>
        </p:nvSpPr>
        <p:spPr>
          <a:xfrm flipH="1">
            <a:off x="6587640" y="5734080"/>
            <a:ext cx="1513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ínea 14"/>
          <p:cNvSpPr/>
          <p:nvPr/>
        </p:nvSpPr>
        <p:spPr>
          <a:xfrm flipH="1">
            <a:off x="4788000" y="5734080"/>
            <a:ext cx="1512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ínea 15"/>
          <p:cNvSpPr/>
          <p:nvPr/>
        </p:nvSpPr>
        <p:spPr>
          <a:xfrm flipH="1">
            <a:off x="2987280" y="5734080"/>
            <a:ext cx="1513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ínea 16"/>
          <p:cNvSpPr/>
          <p:nvPr/>
        </p:nvSpPr>
        <p:spPr>
          <a:xfrm flipH="1">
            <a:off x="1258920" y="5734080"/>
            <a:ext cx="1512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ínea 17"/>
          <p:cNvSpPr/>
          <p:nvPr/>
        </p:nvSpPr>
        <p:spPr>
          <a:xfrm flipH="1">
            <a:off x="610920" y="5734080"/>
            <a:ext cx="431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ínea 18"/>
          <p:cNvSpPr/>
          <p:nvPr/>
        </p:nvSpPr>
        <p:spPr>
          <a:xfrm flipV="1">
            <a:off x="611280" y="2923920"/>
            <a:ext cx="0" cy="280836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uadro de texto 19"/>
          <p:cNvSpPr/>
          <p:nvPr/>
        </p:nvSpPr>
        <p:spPr>
          <a:xfrm>
            <a:off x="971280" y="41292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Black"/>
              </a:rPr>
              <a:t>0</a:t>
            </a:r>
            <a:r>
              <a:rPr b="1" lang="es-ES" sz="1800" spc="-1" strike="noStrike">
                <a:solidFill>
                  <a:srgbClr val="800000"/>
                </a:solidFill>
                <a:latin typeface="Calibri"/>
              </a:rPr>
              <a:t> COMPETENCIAS  PARA LA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forma 20"/>
          <p:cNvSpPr/>
          <p:nvPr/>
        </p:nvSpPr>
        <p:spPr>
          <a:xfrm>
            <a:off x="250920" y="549360"/>
            <a:ext cx="503280" cy="792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22040 h 792000"/>
              <a:gd name="textAreaBottom" fmla="*/ 59076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468308"/>
                <a:lnTo>
                  <a:pt x="14400" y="21218"/>
                </a:lnTo>
                <a:lnTo>
                  <a:pt x="21600" y="16391"/>
                </a:lnTo>
                <a:lnTo>
                  <a:pt x="14400" y="10800"/>
                </a:lnTo>
                <a:lnTo>
                  <a:pt x="14400" y="12960"/>
                </a:lnTo>
                <a:arcTo wR="21600" hR="6671" stAng="8331692" swAng="1927237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ínea 21"/>
          <p:cNvSpPr/>
          <p:nvPr/>
        </p:nvSpPr>
        <p:spPr>
          <a:xfrm>
            <a:off x="5292720" y="2852640"/>
            <a:ext cx="0" cy="2160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ínea 22"/>
          <p:cNvSpPr/>
          <p:nvPr/>
        </p:nvSpPr>
        <p:spPr>
          <a:xfrm flipH="1">
            <a:off x="4642920" y="5013360"/>
            <a:ext cx="129564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uadro de texto 23"/>
          <p:cNvSpPr/>
          <p:nvPr/>
        </p:nvSpPr>
        <p:spPr>
          <a:xfrm>
            <a:off x="6733080" y="479736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 Narrow"/>
              </a:rPr>
              <a:t>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uadro de texto 24"/>
          <p:cNvSpPr/>
          <p:nvPr/>
        </p:nvSpPr>
        <p:spPr>
          <a:xfrm>
            <a:off x="2000160" y="4786200"/>
            <a:ext cx="376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Calibri"/>
              </a:rPr>
              <a:t>ENSEÑANZA-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uadro de texto 25"/>
          <p:cNvSpPr/>
          <p:nvPr/>
        </p:nvSpPr>
        <p:spPr>
          <a:xfrm>
            <a:off x="8237160" y="936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uadro de texto 26"/>
          <p:cNvSpPr/>
          <p:nvPr/>
        </p:nvSpPr>
        <p:spPr>
          <a:xfrm>
            <a:off x="7055280" y="1484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3300"/>
                </a:solidFill>
                <a:latin typeface="Arial Black"/>
              </a:rPr>
              <a:t>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uadro de texto 29"/>
          <p:cNvSpPr/>
          <p:nvPr/>
        </p:nvSpPr>
        <p:spPr>
          <a:xfrm>
            <a:off x="5102640" y="148428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3300"/>
                </a:solidFill>
                <a:latin typeface="Arial Black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uadro de texto 30"/>
          <p:cNvSpPr/>
          <p:nvPr/>
        </p:nvSpPr>
        <p:spPr>
          <a:xfrm>
            <a:off x="7161120" y="393372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Calibri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uadro de texto 31"/>
          <p:cNvSpPr/>
          <p:nvPr/>
        </p:nvSpPr>
        <p:spPr>
          <a:xfrm>
            <a:off x="3492360" y="3933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Calibri"/>
              </a:rPr>
              <a:t>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uadro de texto 33"/>
          <p:cNvSpPr/>
          <p:nvPr/>
        </p:nvSpPr>
        <p:spPr>
          <a:xfrm>
            <a:off x="697320" y="148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lipse 8"/>
          <p:cNvSpPr/>
          <p:nvPr/>
        </p:nvSpPr>
        <p:spPr>
          <a:xfrm>
            <a:off x="5796000" y="1844640"/>
            <a:ext cx="936720" cy="10810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 Narrow"/>
              </a:rPr>
              <a:t>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lipse 8"/>
          <p:cNvSpPr/>
          <p:nvPr/>
        </p:nvSpPr>
        <p:spPr>
          <a:xfrm>
            <a:off x="6732720" y="1844640"/>
            <a:ext cx="936360" cy="10810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 Narrow"/>
              </a:rPr>
              <a:t>evid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5 CuadroTexto"/>
          <p:cNvSpPr/>
          <p:nvPr/>
        </p:nvSpPr>
        <p:spPr>
          <a:xfrm>
            <a:off x="6104520" y="148428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00000"/>
                </a:solidFill>
                <a:latin typeface="Arial Black"/>
              </a:rPr>
              <a:t>2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36 CuadroTexto"/>
          <p:cNvSpPr/>
          <p:nvPr/>
        </p:nvSpPr>
        <p:spPr>
          <a:xfrm>
            <a:off x="2136960" y="148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0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37 CuadroTexto"/>
          <p:cNvSpPr/>
          <p:nvPr/>
        </p:nvSpPr>
        <p:spPr>
          <a:xfrm>
            <a:off x="3348000" y="1557360"/>
            <a:ext cx="3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0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Calibri"/>
              </a:rPr>
              <a:t>Esencia  de las competencias para la vi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24000" y="1142640"/>
            <a:ext cx="6562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1)Aprender a apren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2) Manejar inform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3)Manejar situac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4)Convive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5)Vida en socie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lipse 2"/>
          <p:cNvSpPr/>
          <p:nvPr/>
        </p:nvSpPr>
        <p:spPr>
          <a:xfrm>
            <a:off x="1908000" y="692280"/>
            <a:ext cx="5400720" cy="237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alibri"/>
              </a:rPr>
              <a:t>Comprender y organizar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alibri"/>
              </a:rPr>
              <a:t>Comprender  y dominar procesos y ha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lipse 3"/>
          <p:cNvSpPr/>
          <p:nvPr/>
        </p:nvSpPr>
        <p:spPr>
          <a:xfrm>
            <a:off x="1619280" y="2347920"/>
            <a:ext cx="4681440" cy="2449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Enfrentar situaciones cada vez más complej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movilizando saberes y otros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lipse 4"/>
          <p:cNvSpPr/>
          <p:nvPr/>
        </p:nvSpPr>
        <p:spPr>
          <a:xfrm>
            <a:off x="1908000" y="4005360"/>
            <a:ext cx="3600720" cy="201600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Uso significativo del 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en situaciones de desemp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ínea 5"/>
          <p:cNvSpPr/>
          <p:nvPr/>
        </p:nvSpPr>
        <p:spPr>
          <a:xfrm>
            <a:off x="2556000" y="2708280"/>
            <a:ext cx="1655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ínea 6"/>
          <p:cNvSpPr/>
          <p:nvPr/>
        </p:nvSpPr>
        <p:spPr>
          <a:xfrm flipV="1">
            <a:off x="4211640" y="2923920"/>
            <a:ext cx="1800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uadro de texto 7"/>
          <p:cNvSpPr/>
          <p:nvPr/>
        </p:nvSpPr>
        <p:spPr>
          <a:xfrm>
            <a:off x="3285360" y="249228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0253f"/>
                </a:solidFill>
                <a:latin typeface="Arial Narrow"/>
              </a:rPr>
              <a:t>Evaluación form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ínea 8"/>
          <p:cNvSpPr/>
          <p:nvPr/>
        </p:nvSpPr>
        <p:spPr>
          <a:xfrm>
            <a:off x="2268360" y="4292640"/>
            <a:ext cx="15829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ínea 9"/>
          <p:cNvSpPr/>
          <p:nvPr/>
        </p:nvSpPr>
        <p:spPr>
          <a:xfrm flipV="1">
            <a:off x="3851280" y="4581360"/>
            <a:ext cx="1512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uadro de texto 10"/>
          <p:cNvSpPr/>
          <p:nvPr/>
        </p:nvSpPr>
        <p:spPr>
          <a:xfrm>
            <a:off x="3003840" y="42210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 Narrow"/>
              </a:rPr>
              <a:t>Evaluación form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lipse 11"/>
          <p:cNvSpPr/>
          <p:nvPr/>
        </p:nvSpPr>
        <p:spPr>
          <a:xfrm>
            <a:off x="7072200" y="0"/>
            <a:ext cx="2071800" cy="18064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Situación desafi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Tarea-prob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ínea 12"/>
          <p:cNvSpPr/>
          <p:nvPr/>
        </p:nvSpPr>
        <p:spPr>
          <a:xfrm>
            <a:off x="684360" y="692280"/>
            <a:ext cx="669744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ínea 13"/>
          <p:cNvSpPr/>
          <p:nvPr/>
        </p:nvSpPr>
        <p:spPr>
          <a:xfrm>
            <a:off x="7380360" y="692280"/>
            <a:ext cx="0" cy="45370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uadro de texto 14"/>
          <p:cNvSpPr/>
          <p:nvPr/>
        </p:nvSpPr>
        <p:spPr>
          <a:xfrm>
            <a:off x="1203480" y="216000"/>
            <a:ext cx="267264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00000"/>
                </a:solidFill>
                <a:latin typeface="Arial Black"/>
              </a:rPr>
              <a:t>SECUENCIA 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uadro de texto 15"/>
          <p:cNvSpPr/>
          <p:nvPr/>
        </p:nvSpPr>
        <p:spPr>
          <a:xfrm>
            <a:off x="380160" y="170028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uadro de texto 16"/>
          <p:cNvSpPr/>
          <p:nvPr/>
        </p:nvSpPr>
        <p:spPr>
          <a:xfrm>
            <a:off x="313920" y="335124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uadro de texto 17"/>
          <p:cNvSpPr/>
          <p:nvPr/>
        </p:nvSpPr>
        <p:spPr>
          <a:xfrm>
            <a:off x="663480" y="494172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ie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Tall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Presentación y organización de la ses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Desarrollo de la guía de trabajo en equip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Orientación para la próxima sesión de trabaj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9" descr="750px-Russian-Matroshka_no_bg.jpg"/>
          <p:cNvPicPr/>
          <p:nvPr/>
        </p:nvPicPr>
        <p:blipFill>
          <a:blip r:embed="rId1"/>
          <a:stretch/>
        </p:blipFill>
        <p:spPr>
          <a:xfrm>
            <a:off x="684360" y="4221000"/>
            <a:ext cx="3295440" cy="263700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27"/>
          <p:cNvGrpSpPr/>
          <p:nvPr/>
        </p:nvGrpSpPr>
        <p:grpSpPr>
          <a:xfrm>
            <a:off x="611280" y="2565360"/>
            <a:ext cx="3313080" cy="914400"/>
            <a:chOff x="611280" y="2565360"/>
            <a:chExt cx="3313080" cy="914400"/>
          </a:xfrm>
        </p:grpSpPr>
        <p:sp>
          <p:nvSpPr>
            <p:cNvPr id="150" name="9 Rectángulo"/>
            <p:cNvSpPr/>
            <p:nvPr/>
          </p:nvSpPr>
          <p:spPr>
            <a:xfrm>
              <a:off x="611280" y="2565360"/>
              <a:ext cx="3313080" cy="914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3 Rectángulo"/>
            <p:cNvSpPr/>
            <p:nvPr/>
          </p:nvSpPr>
          <p:spPr>
            <a:xfrm>
              <a:off x="709560" y="2565360"/>
              <a:ext cx="914400" cy="91440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1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CL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4 Rectángulo"/>
            <p:cNvSpPr/>
            <p:nvPr/>
          </p:nvSpPr>
          <p:spPr>
            <a:xfrm>
              <a:off x="2874960" y="2565360"/>
              <a:ext cx="914400" cy="9144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3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CL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5 Rectángulo"/>
            <p:cNvSpPr/>
            <p:nvPr/>
          </p:nvSpPr>
          <p:spPr>
            <a:xfrm>
              <a:off x="1809720" y="2565360"/>
              <a:ext cx="914400" cy="9144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2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CL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10 Rectángulo"/>
          <p:cNvSpPr/>
          <p:nvPr/>
        </p:nvSpPr>
        <p:spPr>
          <a:xfrm>
            <a:off x="4211640" y="2565360"/>
            <a:ext cx="3384720" cy="91440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6 Rectángulo"/>
          <p:cNvSpPr/>
          <p:nvPr/>
        </p:nvSpPr>
        <p:spPr>
          <a:xfrm>
            <a:off x="4378320" y="256536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4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L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7 Rectángulo"/>
          <p:cNvSpPr/>
          <p:nvPr/>
        </p:nvSpPr>
        <p:spPr>
          <a:xfrm>
            <a:off x="5435640" y="256536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5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L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8 Rectángulo"/>
          <p:cNvSpPr/>
          <p:nvPr/>
        </p:nvSpPr>
        <p:spPr>
          <a:xfrm>
            <a:off x="7761240" y="2565360"/>
            <a:ext cx="914400" cy="914400"/>
          </a:xfrm>
          <a:prstGeom prst="rect">
            <a:avLst/>
          </a:prstGeom>
          <a:solidFill>
            <a:srgbClr val="ff66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7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L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2 Flecha a la derecha con bandas"/>
          <p:cNvSpPr/>
          <p:nvPr/>
        </p:nvSpPr>
        <p:spPr>
          <a:xfrm>
            <a:off x="2268360" y="3716280"/>
            <a:ext cx="1656000" cy="649440"/>
          </a:xfrm>
          <a:custGeom>
            <a:avLst/>
            <a:gdLst/>
            <a:ahLst/>
            <a:rect l="l" t="t" r="r" b="b"/>
            <a:pathLst>
              <a:path w="1655762" h="649287">
                <a:moveTo>
                  <a:pt x="0" y="162322"/>
                </a:moveTo>
                <a:lnTo>
                  <a:pt x="20290" y="162322"/>
                </a:lnTo>
                <a:lnTo>
                  <a:pt x="20290" y="486965"/>
                </a:lnTo>
                <a:lnTo>
                  <a:pt x="0" y="486965"/>
                </a:lnTo>
                <a:lnTo>
                  <a:pt x="0" y="162322"/>
                </a:lnTo>
                <a:close/>
                <a:moveTo>
                  <a:pt x="40580" y="162322"/>
                </a:moveTo>
                <a:lnTo>
                  <a:pt x="81161" y="162322"/>
                </a:lnTo>
                <a:lnTo>
                  <a:pt x="81161" y="486965"/>
                </a:lnTo>
                <a:lnTo>
                  <a:pt x="40580" y="486965"/>
                </a:lnTo>
                <a:lnTo>
                  <a:pt x="40580" y="162322"/>
                </a:lnTo>
                <a:close/>
                <a:moveTo>
                  <a:pt x="101451" y="162322"/>
                </a:moveTo>
                <a:lnTo>
                  <a:pt x="1331119" y="162322"/>
                </a:lnTo>
                <a:lnTo>
                  <a:pt x="1331119" y="0"/>
                </a:lnTo>
                <a:lnTo>
                  <a:pt x="1655762" y="324644"/>
                </a:lnTo>
                <a:lnTo>
                  <a:pt x="1331119" y="649287"/>
                </a:lnTo>
                <a:lnTo>
                  <a:pt x="1331119" y="486965"/>
                </a:lnTo>
                <a:lnTo>
                  <a:pt x="101451" y="486965"/>
                </a:lnTo>
                <a:lnTo>
                  <a:pt x="101451" y="16232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3 CuadroTexto"/>
          <p:cNvSpPr/>
          <p:nvPr/>
        </p:nvSpPr>
        <p:spPr>
          <a:xfrm>
            <a:off x="678600" y="386064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AP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4 Flecha a la derecha con bandas"/>
          <p:cNvSpPr/>
          <p:nvPr/>
        </p:nvSpPr>
        <p:spPr>
          <a:xfrm>
            <a:off x="5940360" y="3716280"/>
            <a:ext cx="792360" cy="649440"/>
          </a:xfrm>
          <a:custGeom>
            <a:avLst/>
            <a:gdLst/>
            <a:ahLst/>
            <a:rect l="l" t="t" r="r" b="b"/>
            <a:pathLst>
              <a:path w="792163" h="649287">
                <a:moveTo>
                  <a:pt x="0" y="162322"/>
                </a:moveTo>
                <a:lnTo>
                  <a:pt x="20290" y="162322"/>
                </a:lnTo>
                <a:lnTo>
                  <a:pt x="20290" y="486965"/>
                </a:lnTo>
                <a:lnTo>
                  <a:pt x="0" y="486965"/>
                </a:lnTo>
                <a:lnTo>
                  <a:pt x="0" y="162322"/>
                </a:lnTo>
                <a:close/>
                <a:moveTo>
                  <a:pt x="40580" y="162322"/>
                </a:moveTo>
                <a:lnTo>
                  <a:pt x="81161" y="162322"/>
                </a:lnTo>
                <a:lnTo>
                  <a:pt x="81161" y="486965"/>
                </a:lnTo>
                <a:lnTo>
                  <a:pt x="40580" y="486965"/>
                </a:lnTo>
                <a:lnTo>
                  <a:pt x="40580" y="162322"/>
                </a:lnTo>
                <a:close/>
                <a:moveTo>
                  <a:pt x="101451" y="162322"/>
                </a:moveTo>
                <a:lnTo>
                  <a:pt x="467520" y="162322"/>
                </a:lnTo>
                <a:lnTo>
                  <a:pt x="467520" y="0"/>
                </a:lnTo>
                <a:lnTo>
                  <a:pt x="792163" y="324644"/>
                </a:lnTo>
                <a:lnTo>
                  <a:pt x="467520" y="649287"/>
                </a:lnTo>
                <a:lnTo>
                  <a:pt x="467520" y="486965"/>
                </a:lnTo>
                <a:lnTo>
                  <a:pt x="101451" y="486965"/>
                </a:lnTo>
                <a:lnTo>
                  <a:pt x="101451" y="16232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15 CuadroTexto"/>
          <p:cNvSpPr/>
          <p:nvPr/>
        </p:nvSpPr>
        <p:spPr>
          <a:xfrm>
            <a:off x="4214160" y="386064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7 CuadroTexto"/>
          <p:cNvSpPr/>
          <p:nvPr/>
        </p:nvSpPr>
        <p:spPr>
          <a:xfrm>
            <a:off x="7632720" y="3860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CI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8 Flecha a la derecha con bandas"/>
          <p:cNvSpPr/>
          <p:nvPr/>
        </p:nvSpPr>
        <p:spPr>
          <a:xfrm>
            <a:off x="611280" y="1413000"/>
            <a:ext cx="8064360" cy="72072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CONSTRUYE EL 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19 Flecha a la derecha con bandas"/>
          <p:cNvSpPr/>
          <p:nvPr/>
        </p:nvSpPr>
        <p:spPr>
          <a:xfrm>
            <a:off x="4284720" y="4581360"/>
            <a:ext cx="4390920" cy="15116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ONSTRUYE EL DESEMP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46120" y="456840"/>
            <a:ext cx="8051760" cy="523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LA SECUENCIA DIDÁCTICA DISTRIBUIDA EN EL TIEM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7 Rectángulo"/>
          <p:cNvSpPr/>
          <p:nvPr/>
        </p:nvSpPr>
        <p:spPr>
          <a:xfrm>
            <a:off x="6550200" y="256536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6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L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s-MX" sz="2900" spc="-1" strike="noStrike">
                <a:solidFill>
                  <a:srgbClr val="000000"/>
                </a:solidFill>
                <a:latin typeface="Arial Rounded MT Bold"/>
              </a:rPr>
              <a:t>PASOS DE LA SECUENCIA DIDÁCTICA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Rounded MT Bold"/>
              </a:rPr>
              <a:t>APER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CTIVAR LOS SABERES PREVIOS (DIAGNÓSTIC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DISPONER EL APRENDIZAJE (Hacer pública la COMPETENCIA, la TAREA, los CRITERIOS e INSTRUMENTOS para la evaluación</a:t>
            </a:r>
            <a:r>
              <a:rPr b="1" lang="es-MX" sz="2000" spc="-1" strike="noStrike">
                <a:solidFill>
                  <a:srgbClr val="ffff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INTRODUCIR LOS NUEVOS SABERES (logrando un uso activo de los mismos en situaciones contextualizad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UTORREGULACIÓN Y METACOGNICIÓN -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Rounded MT Bold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COMPAÑAR A LOS ESTUDIANTES A ENFRENTAR UN DESEMPEÑO CADA VEZ MÁS COMPLEJO HASTA LOGRAR AUTONOMÍA EN LA MOVILIZACIÓN DE LOS RECURSOS NECESARIOS Y EN LA TRANFERENCIA PARA RESOLVER CON ÉXITO  LAS TAREA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UTORREGULACIÓN Y METACOGNICIÓN  </a:t>
            </a: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-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Rounded MT Bold"/>
              </a:rPr>
              <a:t>CI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NFRENTAR LA TAREA INTEGRADORA O DESEMPEÑ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ORIENTAR PARA LA TRANSFERENCIA MÁS ALLÁ DEL AU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2 Conector recto"/>
          <p:cNvSpPr/>
          <p:nvPr/>
        </p:nvSpPr>
        <p:spPr>
          <a:xfrm flipV="1">
            <a:off x="1187280" y="1341000"/>
            <a:ext cx="5977080" cy="716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4 Conector recto de flecha"/>
          <p:cNvCxnSpPr/>
          <p:nvPr/>
        </p:nvCxnSpPr>
        <p:spPr>
          <a:xfrm flipH="1">
            <a:off x="7164000" y="1341360"/>
            <a:ext cx="2160" cy="4392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1" name="5 Elipse"/>
          <p:cNvSpPr/>
          <p:nvPr/>
        </p:nvSpPr>
        <p:spPr>
          <a:xfrm>
            <a:off x="7236000" y="500040"/>
            <a:ext cx="1908000" cy="1851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T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INTEGRADORA O SITUACIÓN P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6 CuadroTexto"/>
          <p:cNvSpPr/>
          <p:nvPr/>
        </p:nvSpPr>
        <p:spPr>
          <a:xfrm>
            <a:off x="826920" y="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0 COMPETENCIAS PARA LA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1 COMPETENCIA 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7 Elipse"/>
          <p:cNvSpPr/>
          <p:nvPr/>
        </p:nvSpPr>
        <p:spPr>
          <a:xfrm>
            <a:off x="2987640" y="1844640"/>
            <a:ext cx="21607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Narrow"/>
              </a:rPr>
              <a:t>ACTIVIDADES Y TAREAS PARA ADQUIRIR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8 Elipse"/>
          <p:cNvSpPr/>
          <p:nvPr/>
        </p:nvSpPr>
        <p:spPr>
          <a:xfrm>
            <a:off x="2916360" y="3357720"/>
            <a:ext cx="2303280" cy="1584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Narrow"/>
              </a:rPr>
              <a:t>ACTIVIDADES Y TAREAS PARA MOVILIZAR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9 Elipse"/>
          <p:cNvSpPr/>
          <p:nvPr/>
        </p:nvSpPr>
        <p:spPr>
          <a:xfrm>
            <a:off x="2700360" y="4797360"/>
            <a:ext cx="251928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TAREA INTEGRADORA  DE CI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0 CuadroTexto"/>
          <p:cNvSpPr/>
          <p:nvPr/>
        </p:nvSpPr>
        <p:spPr>
          <a:xfrm>
            <a:off x="3051360" y="148428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 Rounded MT Bold"/>
              </a:rPr>
              <a:t>SECUENCIA 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12 Conector recto de flecha"/>
          <p:cNvCxnSpPr>
            <a:stCxn id="171" idx="3"/>
          </p:cNvCxnSpPr>
          <p:nvPr/>
        </p:nvCxnSpPr>
        <p:spPr>
          <a:xfrm flipH="1">
            <a:off x="5198760" y="2079360"/>
            <a:ext cx="2316960" cy="32454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8" name="13 Abrir llave"/>
          <p:cNvSpPr/>
          <p:nvPr/>
        </p:nvSpPr>
        <p:spPr>
          <a:xfrm>
            <a:off x="2340000" y="1989000"/>
            <a:ext cx="360360" cy="2735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2735280"/>
              <a:gd name="textAreaBottom" fmla="*/ 272592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"/>
                  <a:pt x="10800" y="237"/>
                </a:cubicBezTo>
                <a:lnTo>
                  <a:pt x="10800" y="10563"/>
                </a:lnTo>
                <a:cubicBezTo>
                  <a:pt x="10800" y="10682"/>
                  <a:pt x="5400" y="10800"/>
                  <a:pt x="0" y="10800"/>
                </a:cubicBezTo>
                <a:cubicBezTo>
                  <a:pt x="5400" y="10800"/>
                  <a:pt x="10800" y="10919"/>
                  <a:pt x="10800" y="11037"/>
                </a:cubicBezTo>
                <a:lnTo>
                  <a:pt x="10800" y="21363"/>
                </a:lnTo>
                <a:cubicBezTo>
                  <a:pt x="10800" y="2148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4 CuadroTexto"/>
          <p:cNvSpPr/>
          <p:nvPr/>
        </p:nvSpPr>
        <p:spPr>
          <a:xfrm>
            <a:off x="256320" y="1916280"/>
            <a:ext cx="230940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Rounded MT Bold"/>
              </a:rPr>
              <a:t>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MEMOR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COMPREN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DESCUBR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A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FINALIDAD DE  LOS OBJETIVOS OBJETIVOS DE APRENDIZAJ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AH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2383920"/>
            <a:ext cx="3314880" cy="399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Transmitir  el saber acumulado culturalmente por la sociedad  y cuidar bien al niñ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352040" y="2386440"/>
            <a:ext cx="4255560" cy="39258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99000"/>
          </a:bodyPr>
          <a:p>
            <a:pPr marL="339480" indent="-33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Objetivos de aprendiz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f497d"/>
                </a:solidFill>
                <a:latin typeface="Arial Narrow"/>
              </a:rPr>
              <a:t>1)Adquisición de conocimientos desde los diferentes campos forma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2)Desarrollo de habil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3)Desarrollo de actitu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0000"/>
                </a:solidFill>
                <a:latin typeface="Arial Narrow"/>
              </a:rPr>
              <a:t>4)Capacidad de aplicar esos recursos de forma  integrada y adecuada  en el contexto de  las  situaciones  didácticas  novedosas cada vez más complejas, en diferentes contex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6840" y="475920"/>
            <a:ext cx="84358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4. Que </a:t>
            </a: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al evaluar para aprender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se parta de </a:t>
            </a: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criterios previamente establecidos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os cuales guíen la enseñanza y abarque tanto aprendizajes de diversos tipos así como desempeño de tareas y desempeños contextuales; </a:t>
            </a: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criterios que apunten hacia el desarrollo de competencias básicas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(lenguaje escritura y habilidades matemáticas) teniendo en cuenta que dichos criterios se especifican a través de indicadores y niveles de logro, relacionados a su vez con la búsqueda de evidencias a través de diferentes instrumen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0000"/>
                </a:solidFill>
                <a:latin typeface="Arial Narrow"/>
              </a:rPr>
              <a:t>Esas tres dimensiones de los objetivos formativos derivan en tres dimensiones  para evaluar competencias , porque  constituyen estándares para el desempeñ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7859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¿Qué conoce el alum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¿Qué sabe hacer con lo que cono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¿Qué nivel  de logro alcanza al enfrentar la tarea, problema, actividad o situación concreta, desde  un saber ser y esta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Calibri"/>
              </a:rPr>
              <a:t>¿Qué se evalú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)¿Cómo construye un bagaje competen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b)¿Cómo  ejecuta  por rutas alternativas  hasta arribar a un desempeño reflexiv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)¿Cómo enfrenta situaciones cada vez más complejas,  desde una actuación competen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cc0000"/>
                </a:solidFill>
                <a:latin typeface="Calibri"/>
              </a:rPr>
              <a:t>EL CONCEPTO DE COMPETENCIA  Y LA RESPUESTA A ¿QUÉ SE EVALÚ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)¿Cómo adquiere  los recursos?(conocimientos, habilidades, actitudes, informaciones, saberes,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)¿Cómo moviliza los recursos para enfrentar situaciones complejas y novedos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)¿Cómo enfrenta situaciones  evidenciando el desarrollo de competencias personales para actuar, desempeñándose en contextos específ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Tres Vías Didáct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Educación para la Compren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Educación por Proyec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Educación por Resolución de Proble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Elipse"/>
          <p:cNvSpPr/>
          <p:nvPr/>
        </p:nvSpPr>
        <p:spPr>
          <a:xfrm>
            <a:off x="285840" y="285840"/>
            <a:ext cx="2916000" cy="1330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APRENDIZAJ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ESPERADOS O RESULTADOS  DE APRENDIZ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5 Elipse"/>
          <p:cNvSpPr/>
          <p:nvPr/>
        </p:nvSpPr>
        <p:spPr>
          <a:xfrm>
            <a:off x="6215040" y="0"/>
            <a:ext cx="2664000" cy="1330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TA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6 Rectángulo"/>
          <p:cNvSpPr/>
          <p:nvPr/>
        </p:nvSpPr>
        <p:spPr>
          <a:xfrm>
            <a:off x="2544840" y="3141720"/>
            <a:ext cx="2361960" cy="69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7 Rectángulo"/>
          <p:cNvSpPr/>
          <p:nvPr/>
        </p:nvSpPr>
        <p:spPr>
          <a:xfrm>
            <a:off x="5219640" y="3141720"/>
            <a:ext cx="1447920" cy="69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IVELES DE LOG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8 Rectángulo"/>
          <p:cNvSpPr/>
          <p:nvPr/>
        </p:nvSpPr>
        <p:spPr>
          <a:xfrm>
            <a:off x="7164360" y="3141720"/>
            <a:ext cx="1446120" cy="69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INSTRU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9 Rectángulo"/>
          <p:cNvSpPr/>
          <p:nvPr/>
        </p:nvSpPr>
        <p:spPr>
          <a:xfrm>
            <a:off x="3471840" y="4376880"/>
            <a:ext cx="2471760" cy="69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EVID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10 Rectángulo"/>
          <p:cNvSpPr/>
          <p:nvPr/>
        </p:nvSpPr>
        <p:spPr>
          <a:xfrm>
            <a:off x="3279600" y="2079720"/>
            <a:ext cx="3116520" cy="4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Black"/>
              </a:rPr>
              <a:t>CRITE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2 Rectángulo"/>
          <p:cNvSpPr/>
          <p:nvPr/>
        </p:nvSpPr>
        <p:spPr>
          <a:xfrm>
            <a:off x="2630520" y="5732640"/>
            <a:ext cx="4865760" cy="9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EMITIR JUICIOS RETROALIMEN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14 Conector recto de flecha"/>
          <p:cNvCxnSpPr>
            <a:stCxn id="194" idx="4"/>
            <a:endCxn id="200" idx="1"/>
          </p:cNvCxnSpPr>
          <p:nvPr/>
        </p:nvCxnSpPr>
        <p:spPr>
          <a:xfrm>
            <a:off x="1743120" y="1615680"/>
            <a:ext cx="1537200" cy="700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3" name="16 Conector recto de flecha"/>
          <p:cNvCxnSpPr>
            <a:stCxn id="195" idx="4"/>
            <a:endCxn id="200" idx="3"/>
          </p:cNvCxnSpPr>
          <p:nvPr/>
        </p:nvCxnSpPr>
        <p:spPr>
          <a:xfrm flipH="1">
            <a:off x="6395400" y="1329840"/>
            <a:ext cx="1151640" cy="9867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4" name="18 Conector recto de flecha"/>
          <p:cNvCxnSpPr>
            <a:stCxn id="200" idx="2"/>
            <a:endCxn id="196" idx="0"/>
          </p:cNvCxnSpPr>
          <p:nvPr/>
        </p:nvCxnSpPr>
        <p:spPr>
          <a:xfrm flipH="1">
            <a:off x="3725640" y="2554200"/>
            <a:ext cx="1111680" cy="5882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20 Conector recto de flecha"/>
          <p:cNvCxnSpPr>
            <a:stCxn id="196" idx="3"/>
            <a:endCxn id="197" idx="1"/>
          </p:cNvCxnSpPr>
          <p:nvPr/>
        </p:nvCxnSpPr>
        <p:spPr>
          <a:xfrm>
            <a:off x="4906440" y="3485880"/>
            <a:ext cx="31356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6" name="24 Conector recto de flecha"/>
          <p:cNvCxnSpPr>
            <a:stCxn id="197" idx="3"/>
            <a:endCxn id="198" idx="1"/>
          </p:cNvCxnSpPr>
          <p:nvPr/>
        </p:nvCxnSpPr>
        <p:spPr>
          <a:xfrm>
            <a:off x="6667560" y="3485880"/>
            <a:ext cx="49752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7" name="26 Conector recto de flecha"/>
          <p:cNvCxnSpPr>
            <a:stCxn id="196" idx="2"/>
            <a:endCxn id="199" idx="0"/>
          </p:cNvCxnSpPr>
          <p:nvPr/>
        </p:nvCxnSpPr>
        <p:spPr>
          <a:xfrm>
            <a:off x="3725640" y="3831840"/>
            <a:ext cx="981720" cy="545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8" name="30 Conector recto de flecha"/>
          <p:cNvCxnSpPr>
            <a:endCxn id="198" idx="2"/>
          </p:cNvCxnSpPr>
          <p:nvPr/>
        </p:nvCxnSpPr>
        <p:spPr>
          <a:xfrm flipV="1">
            <a:off x="7887960" y="3831840"/>
            <a:ext cx="1080" cy="891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9" name="11 Conector recto de flecha"/>
          <p:cNvCxnSpPr/>
          <p:nvPr/>
        </p:nvCxnSpPr>
        <p:spPr>
          <a:xfrm flipH="1">
            <a:off x="5943240" y="4722480"/>
            <a:ext cx="194544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0" name="13 Cerrar llave"/>
          <p:cNvSpPr/>
          <p:nvPr/>
        </p:nvSpPr>
        <p:spPr>
          <a:xfrm rot="5400000">
            <a:off x="4358520" y="1481040"/>
            <a:ext cx="1151280" cy="7351560"/>
          </a:xfrm>
          <a:custGeom>
            <a:avLst/>
            <a:gdLst>
              <a:gd name="textAreaLeft" fmla="*/ 0 w 1151280"/>
              <a:gd name="textAreaRight" fmla="*/ 415800 w 1151280"/>
              <a:gd name="textAreaTop" fmla="*/ 29880 h 7351560"/>
              <a:gd name="textAreaBottom" fmla="*/ 7321680 h 735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1"/>
                  <a:pt x="10800" y="282"/>
                </a:cubicBezTo>
                <a:lnTo>
                  <a:pt x="10800" y="10518"/>
                </a:lnTo>
                <a:cubicBezTo>
                  <a:pt x="10800" y="10659"/>
                  <a:pt x="16200" y="10800"/>
                  <a:pt x="21600" y="10800"/>
                </a:cubicBezTo>
                <a:cubicBezTo>
                  <a:pt x="16200" y="10800"/>
                  <a:pt x="10800" y="10941"/>
                  <a:pt x="10800" y="11082"/>
                </a:cubicBezTo>
                <a:lnTo>
                  <a:pt x="10800" y="21318"/>
                </a:lnTo>
                <a:cubicBezTo>
                  <a:pt x="10800" y="21459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9 Elipse"/>
          <p:cNvSpPr/>
          <p:nvPr/>
        </p:nvSpPr>
        <p:spPr>
          <a:xfrm>
            <a:off x="3429000" y="285840"/>
            <a:ext cx="264312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 Narrow"/>
              </a:rPr>
              <a:t>COMPET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5 Conector recto"/>
          <p:cNvSpPr/>
          <p:nvPr/>
        </p:nvSpPr>
        <p:spPr>
          <a:xfrm flipV="1">
            <a:off x="3201840" y="742680"/>
            <a:ext cx="227160" cy="207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31 Conector recto"/>
          <p:cNvSpPr/>
          <p:nvPr/>
        </p:nvSpPr>
        <p:spPr>
          <a:xfrm flipV="1">
            <a:off x="6072120" y="665280"/>
            <a:ext cx="142920" cy="77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39640" y="1052640"/>
            <a:ext cx="8229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1. Que los </a:t>
            </a:r>
            <a:r>
              <a:rPr b="1" lang="es-MX" sz="4000" spc="-1" strike="noStrike">
                <a:solidFill>
                  <a:srgbClr val="ff0000"/>
                </a:solidFill>
                <a:latin typeface="Calibri"/>
              </a:rPr>
              <a:t>aprendizajes esperados 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son el referente del cual parte el maestro para </a:t>
            </a:r>
            <a:r>
              <a:rPr b="1" lang="es-MX" sz="4000" spc="-1" strike="noStrike">
                <a:solidFill>
                  <a:srgbClr val="ff0000"/>
                </a:solidFill>
                <a:latin typeface="Calibri"/>
              </a:rPr>
              <a:t>planificar y evaluar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, teniendo en cuenta que un aprendizaje esperado enuncia </a:t>
            </a: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qué se aprende y cómo el alumno demuestra lo que aprende evidenciando los niveles de competencia alcanzado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42640" y="1285560"/>
            <a:ext cx="6186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PERTINEN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JERARQUIZA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INDEPENDIEN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POC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CARACTERÍSTICAS DE LOS CRITERIOS DE EVALU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Que el </a:t>
            </a: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trabajo colegiado 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constituye  clave de éxito, tanto para enriquecer el consejo técnico como para optimizar recursos en función de la calidad del aprendizaje, para lo cual las </a:t>
            </a: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5 “C’s” 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pueden constituir una herramienta valiosa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Black"/>
              </a:rPr>
              <a:t>Trabajo Colegiado (las 5 “C”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Calibri"/>
              </a:rPr>
              <a:t>Conjunción de enfoques 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(cómo se puede favorecer el enfoque globalizador, interdisciplinario y competencial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Calibri"/>
              </a:rPr>
              <a:t>Continuidad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(profundizar en objetivos comunes de cada etapa y delimitar líneas de continuidad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Calibri"/>
              </a:rPr>
              <a:t>Componentes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(destacar los aprendizajes esperados y los restantes componentes didáctico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Calibri"/>
              </a:rPr>
              <a:t>Consenso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(consensuar estrategias y técnicas metodológicas que pueden ser comunes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Calibri"/>
              </a:rPr>
              <a:t>Criterios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(definir criterios e indicadores de logro con vista a tener referentes comunes y evitar dispersión o reduplicación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esumie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Aprendizajes  esperados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omo refer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Situaciones problema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lemento esencial de la planific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Secuencias Didácticas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on fases que integran competencias para la vida y competencias específicas apoyándose en contenidos integra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Evaluar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 desde </a:t>
            </a: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criterios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 previamente establecidos </a:t>
            </a: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buscando evidenci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Trabajo colegi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6" descr="Black_hand"/>
          <p:cNvPicPr/>
          <p:nvPr/>
        </p:nvPicPr>
        <p:blipFill>
          <a:blip r:embed="rId1"/>
          <a:stretch/>
        </p:blipFill>
        <p:spPr>
          <a:xfrm>
            <a:off x="6804000" y="3789360"/>
            <a:ext cx="21240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071720" y="0"/>
          <a:ext cx="8072280" cy="6858000"/>
        </p:xfrm>
        <a:graphic>
          <a:graphicData uri="http://schemas.openxmlformats.org/drawingml/2006/table">
            <a:tbl>
              <a:tblPr/>
              <a:tblGrid>
                <a:gridCol w="2498400"/>
                <a:gridCol w="5573880"/>
              </a:tblGrid>
              <a:tr h="41580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Niveles de logro de los propósitos fundament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dores de apoyo para la interpretación  y reporte de resultad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Ópti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claro logro del propósito que está a punto de alcanzarlo con base en el dominio(consistente, evidente, integral, recurrente, permanente) de las competencias en cuest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9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Consider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icia un razonable avance hacia el logro del propósito con base en un dominio ( apropiado, adecuado, coherente,  sustancial) de las competencias en cuest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Bás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acercamiento elemental de lo que expresa la competencia, con base en un dominio (suficiente, necesario, imprescindible,, promedio) de las competencias en cuest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5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Por debajo de lo bás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alejamiento importante, con base en un dominio (escaso, poco evidente,  superficial, irregular,  insuficiente ) de las competencias  en cuest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395280" y="907920"/>
          <a:ext cx="8229600" cy="5800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6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ato (necesita  direcció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 a alguien cumpliendo una tare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e sobre un tema específ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comportamiento es determinado por regl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uestra poca flexibil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icultad para relacionar la práctica a la teorí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ompleta la tarea satisfactoriam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ncipiante  (necesita apoy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eva experiencia práctica a las situ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uestra más flexibil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uestra algunas habilidades analíticas en la resolución de problem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mple las tareas satisfactoriamente pero requiere supervisión y asistencia en establecer prioridad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83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te (busca consej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a la tarea satisfactoriamente sin supervis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lica conocimientos  práct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 analítico en la resolución de problem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ieza a ver acciones en término de la situación global o de metas a largo plaz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 capaz de priorizar y establecer una perspectiva de la situa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y competente  (es independient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 muy analítico en la resolución de problemas y es capaz de priorizar en una variedad de situaciones, temas y problem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puede relacionar con la situación 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mple un trabajo de alta calidad de manera muy efici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ibe el significado de una situación en términos de metas a largo plazo o repercus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 capaz de integrar exitosamente habilidades, conocimientos y comportamientos en la mayoría de las situa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á desarrollando una comprensión intuitiva de las situa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224" name="2 CuadroTexto"/>
          <p:cNvSpPr/>
          <p:nvPr/>
        </p:nvSpPr>
        <p:spPr>
          <a:xfrm>
            <a:off x="3490920" y="30492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Niveles de Log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428760" y="428760"/>
          <a:ext cx="8229600" cy="6227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vel de log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  <a:tr h="147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e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 lenguaje  usado es consistentemente  claro y preciso y el vocabulario utilizado demuestra  gran variedad.  Las convenciones han sido respetadas a cabalidad  en todo momento .El registro es el apropiado  a la tarea y el discurso  ha sido organizado  conforme a la idea  central que se desea expres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  <a:tr h="1735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e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 lenguaje usado es  claro y preciso en general  y el vocabulario utilizado es variado .Las convenciones han sido respetas en la mayoría de los casos, por lo que no hay errores significativos de gramática ,ortografía y construcción de frases. El registro es apropiado ala tarea  y el discurso ha sido eficazmente  organizado para apreciar la idea  central que se desea comunic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  <a:tr h="1227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isfacto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 lenguaje usado es claro .las convenciones no han sido siempre respetadas ,por lo que puede haber algunos errores de gramática, ortografía y construcción de frases .las ideas no han sido organizadas adecuadamente , aunque se puede apreciar la idea princip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  <a:tr h="144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iere Reforz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 lenguaje expresado no es claramente comprensible y frecuentemente el vocabulario es impreciso  o inadecuado .hay muchos errores  de gramática y ortografía  y construcción de frases .la falta de organización d elas ideas no permite  visualizar la idea princip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226" name="5 CuadroTexto"/>
          <p:cNvSpPr/>
          <p:nvPr/>
        </p:nvSpPr>
        <p:spPr>
          <a:xfrm>
            <a:off x="58320" y="0"/>
            <a:ext cx="865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Criterio: Muestra claridad de expresión ya sea en contextos orales o escr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upo 2"/>
          <p:cNvGrpSpPr/>
          <p:nvPr/>
        </p:nvGrpSpPr>
        <p:grpSpPr>
          <a:xfrm>
            <a:off x="214200" y="857160"/>
            <a:ext cx="8734320" cy="5819400"/>
            <a:chOff x="214200" y="857160"/>
            <a:chExt cx="8734320" cy="5819400"/>
          </a:xfrm>
        </p:grpSpPr>
        <p:sp>
          <p:nvSpPr>
            <p:cNvPr id="228" name="Rectángulo 3"/>
            <p:cNvSpPr/>
            <p:nvPr/>
          </p:nvSpPr>
          <p:spPr>
            <a:xfrm>
              <a:off x="214200" y="857160"/>
              <a:ext cx="7814880" cy="106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EJES DE ORGANIZACIÓN DE LA PROGRA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DE LA ENSEÑANZ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ángulo 4"/>
            <p:cNvSpPr/>
            <p:nvPr/>
          </p:nvSpPr>
          <p:spPr>
            <a:xfrm>
              <a:off x="415440" y="3172320"/>
              <a:ext cx="2204640" cy="20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CONTEN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(camp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del sabe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ángulo 5"/>
            <p:cNvSpPr/>
            <p:nvPr/>
          </p:nvSpPr>
          <p:spPr>
            <a:xfrm>
              <a:off x="3120840" y="3172320"/>
              <a:ext cx="2504520" cy="192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OBJE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ESPECÍF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(campo d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saber hace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ángulo 6"/>
            <p:cNvSpPr/>
            <p:nvPr/>
          </p:nvSpPr>
          <p:spPr>
            <a:xfrm>
              <a:off x="6326640" y="3267360"/>
              <a:ext cx="2405160" cy="183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Aprendizajes esperados o resultados de aprendiza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ángulo 7"/>
            <p:cNvSpPr/>
            <p:nvPr/>
          </p:nvSpPr>
          <p:spPr>
            <a:xfrm>
              <a:off x="6143760" y="6001200"/>
              <a:ext cx="2804760" cy="67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COMPETE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ínea 8"/>
            <p:cNvSpPr/>
            <p:nvPr/>
          </p:nvSpPr>
          <p:spPr>
            <a:xfrm flipH="1">
              <a:off x="1136520" y="1922400"/>
              <a:ext cx="2703960" cy="12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ínea 9"/>
            <p:cNvSpPr/>
            <p:nvPr/>
          </p:nvSpPr>
          <p:spPr>
            <a:xfrm>
              <a:off x="4322880" y="1918440"/>
              <a:ext cx="0" cy="12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ínea 10"/>
            <p:cNvSpPr/>
            <p:nvPr/>
          </p:nvSpPr>
          <p:spPr>
            <a:xfrm>
              <a:off x="4623120" y="1918440"/>
              <a:ext cx="2804760" cy="134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ínea 11"/>
            <p:cNvSpPr/>
            <p:nvPr/>
          </p:nvSpPr>
          <p:spPr>
            <a:xfrm>
              <a:off x="7527600" y="5100480"/>
              <a:ext cx="0" cy="86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Cuadro de texto 12"/>
          <p:cNvSpPr/>
          <p:nvPr/>
        </p:nvSpPr>
        <p:spPr>
          <a:xfrm>
            <a:off x="2631240" y="214200"/>
            <a:ext cx="44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Black"/>
              </a:rPr>
              <a:t>CAMBIO DE EJE EN LA PLAN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Rectángulo"/>
          <p:cNvSpPr/>
          <p:nvPr/>
        </p:nvSpPr>
        <p:spPr>
          <a:xfrm>
            <a:off x="1908000" y="0"/>
            <a:ext cx="51120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 Black"/>
              </a:rPr>
              <a:t>Proceso  Cur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4 Rectángulo"/>
          <p:cNvSpPr/>
          <p:nvPr/>
        </p:nvSpPr>
        <p:spPr>
          <a:xfrm>
            <a:off x="468360" y="1413000"/>
            <a:ext cx="1871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Nivel  O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5 Rectángulo"/>
          <p:cNvSpPr/>
          <p:nvPr/>
        </p:nvSpPr>
        <p:spPr>
          <a:xfrm>
            <a:off x="2627280" y="1413000"/>
            <a:ext cx="23763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Nivel Acadé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6 Rectángulo"/>
          <p:cNvSpPr/>
          <p:nvPr/>
        </p:nvSpPr>
        <p:spPr>
          <a:xfrm>
            <a:off x="6300720" y="1341360"/>
            <a:ext cx="2087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Nivel Prác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8 Rectángulo"/>
          <p:cNvSpPr/>
          <p:nvPr/>
        </p:nvSpPr>
        <p:spPr>
          <a:xfrm>
            <a:off x="2627280" y="3500280"/>
            <a:ext cx="25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laneación 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9 Rectángulo"/>
          <p:cNvSpPr/>
          <p:nvPr/>
        </p:nvSpPr>
        <p:spPr>
          <a:xfrm>
            <a:off x="5651640" y="3429000"/>
            <a:ext cx="1368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Program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0 Rectángulo"/>
          <p:cNvSpPr/>
          <p:nvPr/>
        </p:nvSpPr>
        <p:spPr>
          <a:xfrm>
            <a:off x="7164360" y="3429000"/>
            <a:ext cx="1584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lane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3 Rectángulo"/>
          <p:cNvSpPr/>
          <p:nvPr/>
        </p:nvSpPr>
        <p:spPr>
          <a:xfrm flipH="1" flipV="1">
            <a:off x="6156360" y="6857280"/>
            <a:ext cx="2643120" cy="48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5 Rectángulo"/>
          <p:cNvSpPr/>
          <p:nvPr/>
        </p:nvSpPr>
        <p:spPr>
          <a:xfrm flipH="1" flipV="1" rot="10800000">
            <a:off x="322920" y="5731560"/>
            <a:ext cx="71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6 Rectángulo"/>
          <p:cNvSpPr/>
          <p:nvPr/>
        </p:nvSpPr>
        <p:spPr>
          <a:xfrm>
            <a:off x="755640" y="4437000"/>
            <a:ext cx="914400" cy="93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erfil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7 Rectángulo"/>
          <p:cNvSpPr/>
          <p:nvPr/>
        </p:nvSpPr>
        <p:spPr>
          <a:xfrm flipH="1" flipV="1" rot="10800000">
            <a:off x="6083640" y="2564280"/>
            <a:ext cx="2643480" cy="48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TAPA DE GESTIÓN CURR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8 Rectángulo"/>
          <p:cNvSpPr/>
          <p:nvPr/>
        </p:nvSpPr>
        <p:spPr>
          <a:xfrm flipH="1" flipV="1" rot="10800000">
            <a:off x="2699280" y="2564280"/>
            <a:ext cx="237636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ETAPA DE DESARROL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CURRI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9 Rectángulo"/>
          <p:cNvSpPr/>
          <p:nvPr/>
        </p:nvSpPr>
        <p:spPr>
          <a:xfrm>
            <a:off x="1258920" y="5661000"/>
            <a:ext cx="6462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20 Rectángulo"/>
          <p:cNvSpPr/>
          <p:nvPr/>
        </p:nvSpPr>
        <p:spPr>
          <a:xfrm flipH="1" flipV="1" rot="10800000">
            <a:off x="322920" y="2637000"/>
            <a:ext cx="2160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TAPA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URR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24 Rectángulo"/>
          <p:cNvSpPr/>
          <p:nvPr/>
        </p:nvSpPr>
        <p:spPr>
          <a:xfrm>
            <a:off x="2698920" y="5589720"/>
            <a:ext cx="431640" cy="503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25 Rectángulo"/>
          <p:cNvSpPr/>
          <p:nvPr/>
        </p:nvSpPr>
        <p:spPr>
          <a:xfrm>
            <a:off x="3203640" y="5589720"/>
            <a:ext cx="431640" cy="503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6 Rectángulo"/>
          <p:cNvSpPr/>
          <p:nvPr/>
        </p:nvSpPr>
        <p:spPr>
          <a:xfrm>
            <a:off x="3706920" y="5589720"/>
            <a:ext cx="431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a6a6a6"/>
                </a:solidFill>
                <a:latin typeface="Calibri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7 Rectángulo"/>
          <p:cNvSpPr/>
          <p:nvPr/>
        </p:nvSpPr>
        <p:spPr>
          <a:xfrm>
            <a:off x="4211640" y="5589720"/>
            <a:ext cx="431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a6a6a6"/>
                </a:solidFill>
                <a:latin typeface="Calibri"/>
              </a:rPr>
              <a:t>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28 Rectángulo"/>
          <p:cNvSpPr/>
          <p:nvPr/>
        </p:nvSpPr>
        <p:spPr>
          <a:xfrm>
            <a:off x="4714920" y="5589720"/>
            <a:ext cx="433440" cy="503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9 Rectángulo"/>
          <p:cNvSpPr/>
          <p:nvPr/>
        </p:nvSpPr>
        <p:spPr>
          <a:xfrm>
            <a:off x="6696000" y="4724280"/>
            <a:ext cx="4320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30 Rectángulo"/>
          <p:cNvSpPr/>
          <p:nvPr/>
        </p:nvSpPr>
        <p:spPr>
          <a:xfrm>
            <a:off x="7199280" y="4724280"/>
            <a:ext cx="4320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31 Rectángulo"/>
          <p:cNvSpPr/>
          <p:nvPr/>
        </p:nvSpPr>
        <p:spPr>
          <a:xfrm>
            <a:off x="7704000" y="4724280"/>
            <a:ext cx="4320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32 Rectángulo"/>
          <p:cNvSpPr/>
          <p:nvPr/>
        </p:nvSpPr>
        <p:spPr>
          <a:xfrm>
            <a:off x="8207280" y="4724280"/>
            <a:ext cx="4320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33 Rectángulo"/>
          <p:cNvSpPr/>
          <p:nvPr/>
        </p:nvSpPr>
        <p:spPr>
          <a:xfrm>
            <a:off x="8712360" y="4724280"/>
            <a:ext cx="43164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37 Conector recto de flecha"/>
          <p:cNvCxnSpPr>
            <a:stCxn id="239" idx="2"/>
            <a:endCxn id="251" idx="1"/>
          </p:cNvCxnSpPr>
          <p:nvPr/>
        </p:nvCxnSpPr>
        <p:spPr>
          <a:xfrm flipH="1">
            <a:off x="1402560" y="2327400"/>
            <a:ext cx="2520" cy="311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3" name="39 Conector recto de flecha"/>
          <p:cNvCxnSpPr>
            <a:stCxn id="251" idx="3"/>
            <a:endCxn id="264" idx="0"/>
          </p:cNvCxnSpPr>
          <p:nvPr/>
        </p:nvCxnSpPr>
        <p:spPr>
          <a:xfrm flipH="1">
            <a:off x="1223280" y="3141720"/>
            <a:ext cx="181800" cy="358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5" name="41 Conector recto de flecha"/>
          <p:cNvCxnSpPr>
            <a:stCxn id="247" idx="2"/>
            <a:endCxn id="246" idx="1"/>
          </p:cNvCxnSpPr>
          <p:nvPr/>
        </p:nvCxnSpPr>
        <p:spPr>
          <a:xfrm flipH="1">
            <a:off x="681840" y="5371920"/>
            <a:ext cx="53100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6" name="43 Conector recto de flecha"/>
          <p:cNvCxnSpPr>
            <a:stCxn id="247" idx="2"/>
            <a:endCxn id="250" idx="0"/>
          </p:cNvCxnSpPr>
          <p:nvPr/>
        </p:nvCxnSpPr>
        <p:spPr>
          <a:xfrm>
            <a:off x="1211760" y="5372280"/>
            <a:ext cx="37044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7" name="45 Conector recto de flecha"/>
          <p:cNvCxnSpPr>
            <a:stCxn id="240" idx="2"/>
            <a:endCxn id="249" idx="1"/>
          </p:cNvCxnSpPr>
          <p:nvPr/>
        </p:nvCxnSpPr>
        <p:spPr>
          <a:xfrm>
            <a:off x="3816360" y="2327040"/>
            <a:ext cx="72000" cy="238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8" name="47 Conector recto de flecha"/>
          <p:cNvCxnSpPr>
            <a:stCxn id="249" idx="3"/>
            <a:endCxn id="242" idx="0"/>
          </p:cNvCxnSpPr>
          <p:nvPr/>
        </p:nvCxnSpPr>
        <p:spPr>
          <a:xfrm>
            <a:off x="3887640" y="3141720"/>
            <a:ext cx="37440" cy="358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9" name="49 Conector recto de flecha"/>
          <p:cNvCxnSpPr>
            <a:endCxn id="252" idx="0"/>
          </p:cNvCxnSpPr>
          <p:nvPr/>
        </p:nvCxnSpPr>
        <p:spPr>
          <a:xfrm flipH="1">
            <a:off x="2913840" y="4941720"/>
            <a:ext cx="108180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0" name="51 Conector recto de flecha"/>
          <p:cNvCxnSpPr>
            <a:endCxn id="253" idx="0"/>
          </p:cNvCxnSpPr>
          <p:nvPr/>
        </p:nvCxnSpPr>
        <p:spPr>
          <a:xfrm flipH="1">
            <a:off x="3419640" y="4941720"/>
            <a:ext cx="57636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1" name="53 Conector recto de flecha"/>
          <p:cNvCxnSpPr>
            <a:endCxn id="254" idx="0"/>
          </p:cNvCxnSpPr>
          <p:nvPr/>
        </p:nvCxnSpPr>
        <p:spPr>
          <a:xfrm flipH="1">
            <a:off x="3921840" y="4941720"/>
            <a:ext cx="7380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2" name="55 Conector recto de flecha"/>
          <p:cNvCxnSpPr>
            <a:endCxn id="255" idx="0"/>
          </p:cNvCxnSpPr>
          <p:nvPr/>
        </p:nvCxnSpPr>
        <p:spPr>
          <a:xfrm>
            <a:off x="3995640" y="4941720"/>
            <a:ext cx="43272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3" name="57 Conector recto de flecha"/>
          <p:cNvCxnSpPr>
            <a:endCxn id="256" idx="0"/>
          </p:cNvCxnSpPr>
          <p:nvPr/>
        </p:nvCxnSpPr>
        <p:spPr>
          <a:xfrm>
            <a:off x="3995640" y="4941720"/>
            <a:ext cx="93600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4" name="59 Conector recto de flecha"/>
          <p:cNvCxnSpPr>
            <a:stCxn id="241" idx="2"/>
            <a:endCxn id="248" idx="1"/>
          </p:cNvCxnSpPr>
          <p:nvPr/>
        </p:nvCxnSpPr>
        <p:spPr>
          <a:xfrm>
            <a:off x="7343640" y="2255760"/>
            <a:ext cx="62640" cy="310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5" name="61 Conector recto de flecha"/>
          <p:cNvCxnSpPr>
            <a:stCxn id="248" idx="3"/>
            <a:endCxn id="243" idx="0"/>
          </p:cNvCxnSpPr>
          <p:nvPr/>
        </p:nvCxnSpPr>
        <p:spPr>
          <a:xfrm flipH="1">
            <a:off x="6335280" y="3048120"/>
            <a:ext cx="107064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6" name="63 Conector recto de flecha"/>
          <p:cNvCxnSpPr>
            <a:stCxn id="248" idx="3"/>
          </p:cNvCxnSpPr>
          <p:nvPr/>
        </p:nvCxnSpPr>
        <p:spPr>
          <a:xfrm>
            <a:off x="7405560" y="3048120"/>
            <a:ext cx="69624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7" name="65 Conector recto de flecha"/>
          <p:cNvCxnSpPr>
            <a:stCxn id="244" idx="2"/>
            <a:endCxn id="257" idx="0"/>
          </p:cNvCxnSpPr>
          <p:nvPr/>
        </p:nvCxnSpPr>
        <p:spPr>
          <a:xfrm flipH="1">
            <a:off x="6911640" y="4221000"/>
            <a:ext cx="104544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8" name="67 Conector recto de flecha"/>
          <p:cNvCxnSpPr>
            <a:stCxn id="244" idx="2"/>
            <a:endCxn id="258" idx="0"/>
          </p:cNvCxnSpPr>
          <p:nvPr/>
        </p:nvCxnSpPr>
        <p:spPr>
          <a:xfrm flipH="1">
            <a:off x="7414920" y="4221000"/>
            <a:ext cx="54216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9" name="69 Conector recto de flecha"/>
          <p:cNvCxnSpPr>
            <a:stCxn id="244" idx="2"/>
            <a:endCxn id="259" idx="0"/>
          </p:cNvCxnSpPr>
          <p:nvPr/>
        </p:nvCxnSpPr>
        <p:spPr>
          <a:xfrm flipH="1">
            <a:off x="7919640" y="4221000"/>
            <a:ext cx="3744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80" name="71 Conector recto de flecha"/>
          <p:cNvCxnSpPr>
            <a:stCxn id="244" idx="2"/>
            <a:endCxn id="260" idx="0"/>
          </p:cNvCxnSpPr>
          <p:nvPr/>
        </p:nvCxnSpPr>
        <p:spPr>
          <a:xfrm>
            <a:off x="7956720" y="4221000"/>
            <a:ext cx="4672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81" name="73 Conector recto de flecha"/>
          <p:cNvCxnSpPr>
            <a:stCxn id="244" idx="2"/>
            <a:endCxn id="261" idx="0"/>
          </p:cNvCxnSpPr>
          <p:nvPr/>
        </p:nvCxnSpPr>
        <p:spPr>
          <a:xfrm>
            <a:off x="7956720" y="4221000"/>
            <a:ext cx="972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82" name="44 Rectángulo"/>
          <p:cNvSpPr/>
          <p:nvPr/>
        </p:nvSpPr>
        <p:spPr>
          <a:xfrm>
            <a:off x="3276720" y="4365720"/>
            <a:ext cx="15620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rogramas de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60 Rectángulo"/>
          <p:cNvSpPr/>
          <p:nvPr/>
        </p:nvSpPr>
        <p:spPr>
          <a:xfrm>
            <a:off x="468360" y="3500280"/>
            <a:ext cx="151128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la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Calibri"/>
              </a:rPr>
              <a:t>El concepto de evaluación  basada en competencias y aspectos claves del acuerdo 69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Que el docente planifique actividades para que los alumnos estudien y aprend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Calibri"/>
              </a:rPr>
              <a:t>Que los alumnos se den cuenta de lo que han aprendido y lo que están por aprend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Calibri"/>
              </a:rPr>
              <a:t>Que se tomen en cuenta los procesos de aprendizaje, no sólo los resultado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Calibri"/>
              </a:rPr>
              <a:t>Que se consideren las necesidades específicas de los alumnos y de los contextos en los que se desarrolla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Calibri"/>
              </a:rPr>
              <a:t>Que la información sobre el desempeño de los alumnos se obtenga de distintas fuentes, no sólo de las prueb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APRENDIZAJES ESPERADOS O RESULTADOS DE APRENDIZ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Son </a:t>
            </a:r>
            <a:r>
              <a:rPr b="0" lang="es-MX" sz="2700" spc="-1" strike="noStrike">
                <a:solidFill>
                  <a:srgbClr val="ff0000"/>
                </a:solidFill>
                <a:latin typeface="Calibri"/>
              </a:rPr>
              <a:t>enunciados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 claros acerca de </a:t>
            </a:r>
            <a:r>
              <a:rPr b="1" i="1" lang="es-MX" sz="2700" spc="-1" strike="noStrike">
                <a:solidFill>
                  <a:srgbClr val="ff0000"/>
                </a:solidFill>
                <a:latin typeface="Calibri"/>
              </a:rPr>
              <a:t>lo que se espera que aprenda el estudiante y cómo va a demostrar este logro</a:t>
            </a:r>
            <a:r>
              <a:rPr b="0" lang="es-MX" sz="27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 De esta manera, los resultados de aprendizaje son más precisos, más fáciles de redactar y mucho más claros que los  tradicionales objetivos. Los resultados de aprendizaje se pueden considerar desde una perspectiva como una especie de “moneda universal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0"/>
          <a:ext cx="9144000" cy="7002360"/>
        </p:xfrm>
        <a:graphic>
          <a:graphicData uri="http://schemas.openxmlformats.org/drawingml/2006/table">
            <a:tbl>
              <a:tblPr/>
              <a:tblGrid>
                <a:gridCol w="2411280"/>
                <a:gridCol w="6732720"/>
              </a:tblGrid>
              <a:tr h="8096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Franklin Gothic Demi Cond"/>
                          <a:ea typeface="Calibri"/>
                        </a:rPr>
                        <a:t>Niveles de logro de los propósitos fundament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Franklin Gothic Demi Cond"/>
                          <a:ea typeface="Calibri"/>
                        </a:rPr>
                        <a:t>Indicadores de apoyo para la interpretación  y reporte de resultado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1f497d"/>
                          </a:solidFill>
                          <a:latin typeface="Arial Black"/>
                          <a:ea typeface="Calibri"/>
                        </a:rPr>
                        <a:t>ÓPTI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claro logro del propósito que está a punto de alcanzarlo con base en el dominio(consistente, evidente, integral, recurrente, permanente) de las competencias en cu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1f497d"/>
                          </a:solidFill>
                          <a:latin typeface="Arial Black"/>
                          <a:ea typeface="Calibri"/>
                        </a:rPr>
                        <a:t>CONSIDER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icia un razonable avance hacia el logro del propósito con base en un dominio ( apropiado, adecuado, coherente,  sustancial) de las competencias en cu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1f497d"/>
                          </a:solidFill>
                          <a:latin typeface="Arial Black"/>
                          <a:ea typeface="Calibri"/>
                        </a:rPr>
                        <a:t>BÁS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acercamiento elemental de lo que expresa la competencia, con base en un dominio (suficiente, necesario, imprescindible, promedio) de las competencias en cuestión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1f497d"/>
                          </a:solidFill>
                          <a:latin typeface="Arial Black"/>
                          <a:ea typeface="Calibri"/>
                        </a:rPr>
                        <a:t>POR DEBAJ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1f497d"/>
                          </a:solidFill>
                          <a:latin typeface="Arial Black"/>
                          <a:ea typeface="Calibri"/>
                        </a:rPr>
                        <a:t>DE LO BÁS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alejamiento importante, con base en un dominio (</a:t>
                      </a: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escaso, poco evidente,  superficial, irregular,  insuficiente )</a:t>
                      </a: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de las competencias  en cu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Calibri"/>
              </a:rPr>
              <a:t>ASPECTOS  PARA UNA  EMISIÓN DE JUICIOS RETROALIMENTAD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Comentar logros (fortalez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Determinar lo que todavía requiere mejorar (debilidad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Proveer ideas concretas y herramientas  de cómo mejorarlo (oportunidad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esumie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Aprendizajes  esperados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omo refer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Situaciones problema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lemento esencial de la planific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Secuencias Didácticas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on fases que integran competencias para la vida y competencias específicas apoyándose en contenidos integra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Evaluar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 desde </a:t>
            </a: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criterios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 previamente establecidos </a:t>
            </a: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buscando evidenci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Trabajo colegi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6" descr="Black_hand"/>
          <p:cNvPicPr/>
          <p:nvPr/>
        </p:nvPicPr>
        <p:blipFill>
          <a:blip r:embed="rId1"/>
          <a:stretch/>
        </p:blipFill>
        <p:spPr>
          <a:xfrm>
            <a:off x="6804000" y="3789360"/>
            <a:ext cx="21240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6760" y="8568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7440" y="856800"/>
            <a:ext cx="404172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Calibri"/>
              </a:rPr>
              <a:t>AHOR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97280" y="1697040"/>
            <a:ext cx="3790440" cy="23266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  <a:ea typeface="Arial"/>
              </a:rPr>
              <a:t>a)Conocimientos, experiencias , saber…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  <a:ea typeface="Arial"/>
              </a:rPr>
              <a:t>b)   Contenidos procedimenta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  <a:ea typeface="Arial"/>
              </a:rPr>
              <a:t>c)Actitu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  <a:ea typeface="Arial"/>
              </a:rPr>
              <a:t>d)Capacidad para dar respuesta a 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  <a:ea typeface="Arial"/>
              </a:rPr>
              <a:t>situaciones  problemas o cuestiones que tienen muchas probabilidades de  encontrar en la realidad, es 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  <a:ea typeface="Arial"/>
              </a:rPr>
              <a:t>decir, </a:t>
            </a:r>
            <a:r>
              <a:rPr b="1" lang="es-MX" sz="1600" spc="-1" strike="noStrike">
                <a:solidFill>
                  <a:srgbClr val="c00000"/>
                </a:solidFill>
                <a:latin typeface="Arial Narrow"/>
                <a:ea typeface="Arial"/>
              </a:rPr>
              <a:t>capacidad de  movilizar y combinar recursos ante situaciones  complejas en contextos determinados, es decir,  enfrentar desempeñ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7 Rectángulo redondeado"/>
          <p:cNvSpPr/>
          <p:nvPr/>
        </p:nvSpPr>
        <p:spPr>
          <a:xfrm>
            <a:off x="468360" y="1500120"/>
            <a:ext cx="4032360" cy="228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1f497d"/>
                </a:solidFill>
                <a:latin typeface="Calibri"/>
              </a:rPr>
              <a:t>Conocimientos, habilidades y actitudes como resultado del dominio de aprendiza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9 Rectángulo"/>
          <p:cNvSpPr/>
          <p:nvPr/>
        </p:nvSpPr>
        <p:spPr>
          <a:xfrm>
            <a:off x="4716360" y="4724280"/>
            <a:ext cx="3959280" cy="505080"/>
          </a:xfrm>
          <a:prstGeom prst="rect">
            <a:avLst/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Rounded MT Bold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0 Rectángulo"/>
          <p:cNvSpPr/>
          <p:nvPr/>
        </p:nvSpPr>
        <p:spPr>
          <a:xfrm>
            <a:off x="4788000" y="5732640"/>
            <a:ext cx="3960720" cy="504720"/>
          </a:xfrm>
          <a:prstGeom prst="rect">
            <a:avLst/>
          </a:prstGeom>
          <a:solidFill>
            <a:srgbClr val="fcd5b5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Rounded MT Bold"/>
              </a:rPr>
              <a:t>ESTANDARES CURRI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1 Flecha abajo"/>
          <p:cNvSpPr/>
          <p:nvPr/>
        </p:nvSpPr>
        <p:spPr>
          <a:xfrm>
            <a:off x="5940360" y="4221000"/>
            <a:ext cx="1079640" cy="503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2 Flecha abajo"/>
          <p:cNvSpPr/>
          <p:nvPr/>
        </p:nvSpPr>
        <p:spPr>
          <a:xfrm>
            <a:off x="6084720" y="5229360"/>
            <a:ext cx="1079640" cy="503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 BERKLEY"/>
              </a:rPr>
              <a:t>Dos orientaciones diferentes para diseñar el aprendizaje y evaluar compet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Calibri"/>
              </a:rPr>
              <a:t>Competencias en la Educación Bási</a:t>
            </a:r>
            <a:r>
              <a:rPr b="1" lang="es-MX" sz="23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3280" y="1341000"/>
            <a:ext cx="40420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Competencias en el contexto de la Educación Superior  y en el mundo del trabaj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49440" y="2367360"/>
            <a:ext cx="3655080" cy="356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haroni"/>
                <a:ea typeface="Aharoni"/>
              </a:rPr>
              <a:t>Planificar para potenciar aprendizaj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haroni"/>
                <a:ea typeface="Aharoni"/>
              </a:rPr>
              <a:t>hacia el desarrollo de competenc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haroni"/>
                <a:ea typeface="Aharoni"/>
              </a:rPr>
              <a:t>(evaluación desde la articulación de recursos y competencia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837320" y="2367360"/>
            <a:ext cx="3656520" cy="356616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haroni"/>
                <a:ea typeface="Aharoni"/>
              </a:rPr>
              <a:t>Planificar para  un entrenamiento en competencia con vista a mejores desempeñ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haroni"/>
                <a:ea typeface="Aharoni"/>
              </a:rPr>
              <a:t>(evaluación de competencias y para el desarrollo de competencias</a:t>
            </a:r>
            <a:r>
              <a:rPr b="0" lang="es-ES" sz="2000" spc="-1" strike="noStrike">
                <a:solidFill>
                  <a:srgbClr val="000000"/>
                </a:solidFill>
                <a:latin typeface="Aharoni"/>
                <a:ea typeface="Aharon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0" y="189000"/>
          <a:ext cx="9144000" cy="68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8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A COMPETENCIA  CONCEBIDA COMO CAPACIDAD </a:t>
            </a: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pacidad  de movilizar diversos tipos de recursos adquiridos (conocimientos, habilidades, actitudes, saberes, esquemas…) para hacer frente a  situaciones cada vez  más complejas en  un contexto determin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6836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Que al </a:t>
            </a:r>
            <a:r>
              <a:rPr b="1" lang="es-MX" sz="3600" spc="-1" strike="noStrike">
                <a:solidFill>
                  <a:srgbClr val="ff0000"/>
                </a:solidFill>
                <a:latin typeface="Calibri"/>
              </a:rPr>
              <a:t>planificar con vista a potenciar aprendizajes orientados al desarrollo de competencias </a:t>
            </a: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se ha de tener presente el papel relevante que ocupa el diseño </a:t>
            </a:r>
            <a:r>
              <a:rPr b="1" lang="es-MX" sz="3600" spc="-1" strike="noStrike">
                <a:solidFill>
                  <a:srgbClr val="ff0000"/>
                </a:solidFill>
                <a:latin typeface="Calibri"/>
              </a:rPr>
              <a:t>de situaciones problema, situaciones desafiantes, situaciones didácticas, tareas de desempeño, tarea integradora</a:t>
            </a:r>
            <a:r>
              <a:rPr b="1" lang="es-MX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las cuales servirán de dispositivo para guiar lo que se ha de aprender y como escenario de lo que se va a avalu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01:46:37Z</dcterms:created>
  <dc:creator>Pedro Valois</dc:creator>
  <dc:description/>
  <dc:language>en-US</dc:language>
  <cp:lastModifiedBy>KAROLINA</cp:lastModifiedBy>
  <dcterms:modified xsi:type="dcterms:W3CDTF">2015-11-03T18:34:09Z</dcterms:modified>
  <cp:revision>35</cp:revision>
  <dc:subject/>
  <dc:title>Presentación de PowerPoint</dc:title>
</cp:coreProperties>
</file>